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352-69A7-4797-B245-F8BD348E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D78D-2D24-4C0D-928C-A20588D5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D83B-4FE9-4E87-B978-DC730AF5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F47-1407-4F55-AA2E-9B75FBB7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0EDC-5435-4C3E-BA0B-848D44CE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709-D4BD-4371-885D-FB30420D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8417-DF85-44EC-BD81-7C6CE956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9BF-2544-45E6-921B-33B4C1B3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798-0902-4DB0-A97A-85DB4AFF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E5F-37B8-4FEC-861C-5173B198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842-C900-4768-B542-B1C9E934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3D5-B961-49F3-B330-8C8A1F35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3D8F-82DA-4D87-BBAC-7C39AE1E1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go Riv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’s Hel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go Rivera: 1886-191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Diego Rivera"/>
          <p:cNvPicPr/>
          <p:nvPr/>
        </p:nvPicPr>
        <p:blipFill>
          <a:blip r:embed="rId1"/>
          <a:stretch/>
        </p:blipFill>
        <p:spPr>
          <a:xfrm>
            <a:off x="2666880" y="2133720"/>
            <a:ext cx="3733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her’s Hel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other's Helper Art Print by Diego Rivera"/>
          <p:cNvPicPr/>
          <p:nvPr/>
        </p:nvPicPr>
        <p:blipFill>
          <a:blip r:embed="rId1"/>
          <a:stretch/>
        </p:blipFill>
        <p:spPr>
          <a:xfrm>
            <a:off x="2057400" y="1295280"/>
            <a:ext cx="6515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5:37:36Z</dcterms:created>
  <dc:creator>Littleton Prep</dc:creator>
  <dc:description/>
  <dc:language>en-US</dc:language>
  <cp:lastModifiedBy>Littleton Prep</cp:lastModifiedBy>
  <dcterms:modified xsi:type="dcterms:W3CDTF">2008-05-05T15:37:44Z</dcterms:modified>
  <cp:revision>1</cp:revision>
  <dc:subject/>
  <dc:title>Diego Rivera</dc:title>
</cp:coreProperties>
</file>