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8D6A-73E9-4CB1-8B47-9F06B8F4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B3C7-BDA3-4100-8FCE-00B4BA4C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056E-A3C1-4A56-8069-F340A3028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4748-AF65-4C84-821E-1BA06F479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1309-5468-44D7-8D57-3F1448D7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F844-B30C-402B-A752-02EC2B83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45F9-C4E3-4F11-809F-5CAB45D5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3879-BF9C-47B9-8E03-3AB112A9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6555-8D91-4296-B32A-73BCFCAB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F9F3-978D-4488-A40F-897157DC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2767-049D-4BB6-96BA-7183FAC7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864B-F17C-4DD0-B311-5DFFF7A7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1763-2D86-47C4-895E-6F8FD914C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50040" y="1722600"/>
            <a:ext cx="491868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A YOUNG HARE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by Albrecht Durer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1471-1528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ha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* Hi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ju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iggles its no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A Young Hare by Albrecht Durer"/>
          <p:cNvPicPr/>
          <p:nvPr/>
        </p:nvPicPr>
        <p:blipFill>
          <a:blip r:embed="rId1"/>
          <a:stretch/>
        </p:blipFill>
        <p:spPr>
          <a:xfrm>
            <a:off x="2090880" y="571680"/>
            <a:ext cx="4962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w, we will make our own rabbi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be given a 12 X 18 sheet of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be given a 4 X 18 sheet of green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t “lines” into the green paper but DO NOT cut all the way through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ue it on your paper at the botto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draw the shapes that I make on your white pieces (11.5 X 8) of paper and then cut them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but not least, the cotton ball tai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1T19:46:54Z</dcterms:created>
  <dc:creator>Littleton Prep</dc:creator>
  <dc:description/>
  <dc:language>en-US</dc:language>
  <cp:lastModifiedBy>Littleton Prep</cp:lastModifiedBy>
  <dcterms:modified xsi:type="dcterms:W3CDTF">2007-12-21T19:47:30Z</dcterms:modified>
  <cp:revision>1</cp:revision>
  <dc:subject/>
  <dc:title>Slide 1</dc:title>
</cp:coreProperties>
</file>