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06D-E384-49D7-A5E2-02D17207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32B-2254-4F06-83E8-C231877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DEE-024D-44D7-9377-9D419E01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5CD-52FB-448F-8E92-296CC476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370-F7C7-49DC-B42D-5DFED78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85E-6FC5-4B89-A096-16806922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B3D-E7B3-49BD-B7CB-D67A3E9C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717-51CA-41EF-BAC4-87B21E46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AC3-C07A-4080-B35C-803E3493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397-9901-4CEC-A974-D4C0174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759-1CB0-4B4B-84CC-E0B9956C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0CD-7FCF-4912-AE3F-9C4B1910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CDC8-C9C6-43DE-97D0-3A44879E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50040" y="1722600"/>
            <a:ext cx="49186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 YOUNG HARE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y Albrecht Durer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1471-152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h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H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j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ggles its no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A Young Hare by Albrecht Durer"/>
          <p:cNvPicPr/>
          <p:nvPr/>
        </p:nvPicPr>
        <p:blipFill>
          <a:blip r:embed="rId1"/>
          <a:stretch/>
        </p:blipFill>
        <p:spPr>
          <a:xfrm>
            <a:off x="2090880" y="571680"/>
            <a:ext cx="496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, we will make our own rabb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iven a 12 X 18 sheet of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iven a 4 X 18 sheet of green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“lines” into the green paper but DO NOT cut all the way through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e it on your paper at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draw the shapes that I make on your white pieces (11.5 X 8) of paper and then cut them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but not least, the cotton ball t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19:46:54Z</dcterms:created>
  <dc:creator>Littleton Prep</dc:creator>
  <dc:description/>
  <dc:language>en-US</dc:language>
  <cp:lastModifiedBy>Littleton Prep</cp:lastModifiedBy>
  <dcterms:modified xsi:type="dcterms:W3CDTF">2007-12-21T19:47:30Z</dcterms:modified>
  <cp:revision>1</cp:revision>
  <dc:subject/>
  <dc:title>Slide 1</dc:title>
</cp:coreProperties>
</file>