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C6D80-E9DA-45E2-BB3F-AEC32069A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A2C92-D20F-4A8F-97EC-468A26594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DAA27-8E0B-47EC-986E-4FCF87F7A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F275E-9D5B-4470-AB70-15F1FAED3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7DF3C-2641-42F8-8669-E373D49B8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62B82-95DE-4476-919E-1A0090BD0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0BB2F-790D-46B6-8020-BEECBCBB2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4DABA-D4DA-47FB-84AE-017C89F01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CFA74-33D5-4EE3-966A-0D7066F1F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3DD8E-91C6-4534-9779-0D6B8AAD9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49942-C9C1-46ED-B041-803889AF6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29AE0-063D-4735-8366-993218C72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F72A-7048-450A-969F-138D3B357E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American Quil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allion Quil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ypical pieced quilt of America's early years was far different than we may imagine. These quilts were made up of several borders built around a central theme. Antique medallion quilts are among the most valued tod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allion Quil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igrants to America brought medallion style quilt making techniques across the Atlantic with them. These quilts were a favored style from the 1780s through the early 1800s. Then during the middle decades of the 19th century making quilts with sets of blocks became quite popular in America. Quilt makers in Europe and Britain continued to prefer making medallion style quilts well beyond tha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applique medallion quilt"/>
          <p:cNvPicPr/>
          <p:nvPr/>
        </p:nvPicPr>
        <p:blipFill>
          <a:blip r:embed="rId1"/>
          <a:stretch/>
        </p:blipFill>
        <p:spPr>
          <a:xfrm>
            <a:off x="2057400" y="1295280"/>
            <a:ext cx="495288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medallion doll quilt for a 4 poster doll bed"/>
          <p:cNvPicPr/>
          <p:nvPr/>
        </p:nvPicPr>
        <p:blipFill>
          <a:blip r:embed="rId1"/>
          <a:stretch/>
        </p:blipFill>
        <p:spPr>
          <a:xfrm>
            <a:off x="2590920" y="1371600"/>
            <a:ext cx="434340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pieced star medallion quilt"/>
          <p:cNvPicPr/>
          <p:nvPr/>
        </p:nvPicPr>
        <p:blipFill>
          <a:blip r:embed="rId1"/>
          <a:stretch/>
        </p:blipFill>
        <p:spPr>
          <a:xfrm>
            <a:off x="2209680" y="1447920"/>
            <a:ext cx="441972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to Make your own Quil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you need to decide on your center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you need to think about what kind of boarders you want around your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encil and beg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9:59:46Z</dcterms:created>
  <dc:creator>Littleton Prep</dc:creator>
  <dc:description/>
  <dc:language>en-US</dc:language>
  <cp:lastModifiedBy>Littleton Prep</cp:lastModifiedBy>
  <dcterms:modified xsi:type="dcterms:W3CDTF">2008-01-10T22:34:40Z</dcterms:modified>
  <cp:revision>2</cp:revision>
  <dc:subject/>
  <dc:title>Early American Quilts</dc:title>
</cp:coreProperties>
</file>