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753-3BF8-47DF-9CBF-4DF56D4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A66-6F88-4E3B-9953-D3616161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7D0-689F-4CBB-9371-D1AE1932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E43-78E7-44D9-B6BB-92B97581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7A5-9903-4E73-A5E0-740AA799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9DE-FB96-4235-9E7A-5AC4E66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66F-89DC-4EE0-B729-9682D923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1B3-BE99-437B-B4A7-942A3F4F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56A-6416-4527-B0F0-0AD9375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B7A-CCB2-4A75-856D-D6230D7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D87-F350-4FE4-8E70-071D401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A80-8FC5-4E4A-9BB0-BA70CB90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319-4244-4D82-A95B-7319CF1B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I marvelled this ungainly fowl to hear discourse so plainl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its answer little meaning — little relevancy b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e cannot help agreeing that no sublunary be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yet was blessed with seeing bird above his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or beast upon the sculptured bust above his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th such name as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, sitting lonely on the placid bust, spoke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one word, as if his soul in that one word he did outpou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further then he uttered — not a feather then he fluttered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I scarcely more than muttered "Other friends have flown bef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morrow he will leave me, as my hopes have flown bef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ing at the stillness broken by reply so aptly sp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ubtless," said I, "what it utters is its only stock and st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ght from some unhappy master whom unmerciful Disas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d fast and followed faster so when Hope he woul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 Despair returned, instead of the sweet Hope he dare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at sad answer, "Never — 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 still beguiling all my sad soul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I wheeled a cushioned seat in front of bird, and bust and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pon the velvet sinking, I betook myself to link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cy unto fancy, thinking what this ominous bird of y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s grim, ungainly, ghastly, gaunt and ominous bird of y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ant in croaking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sat engaged in guessing, but no syllable expres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owl whose fiery eyes now burned into my bosom's c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more I sat divining, with my head at ease reclin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ushion's velvet lining that the lamp-light gloated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ose velvet violet lining with the lamp-light gloating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e shall press, ah, nevermo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methought, the air grew denser, perfumed from an unseen cens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ung by Angels whose faint foot-falls tinkled on the tufted flo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retch," I cried, "thy God hath lent thee — by these angels he hath sent th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te — respite and nepenthe, from thy memories of Lenore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quaff this kind nepenthe and forget this lost Lenore!"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phet!" said I, "thing of evil! — prophet still, if bird or devil!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empter sent, or whether tempest tossed thee here ashor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olate yet all undaunted, on this desert land enchanted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home by Horror haunted — tell me truly, I implore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— is there balm in Gilead? — tell me — tell me, I implore!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rophet!" said I, "thing of evil — prophet still, if bird or devil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at Heaven that bends above us — by that God we both ad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is soul with sorrow laden if, within the distant Aiden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all clasp a sainted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p a rare and radiant maiden whom the angels name Len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e that word our sign in parting, bird or fiend!" I shrieked, upstarting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Get thee back into the tempest and the Night's Plutonian shore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no black plume as a token of that lie thy soul hath spoken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my loneliness unbroken! — quit the bust above my door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y beak from out my heart, and take thy form from off my door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upon a midnight dreary, while I pondered, weak and wear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many a quaint and curious volume of forgotten l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 nodded, nearly napping, suddenly there came a tapp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some one gently rapping, rapping at my chamber d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," I muttered, "tapping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nly th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raven, never flitting, still is sitting, still is sit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allid bust of Pallas just above my chamber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 eyes have all the seeming of a demon that is dream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lamp-light o'er him streaming throws his shadow on the fl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soul from out that shadow that lies floating on the flo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all be lifted — nevermo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, distinctly I remember it was in the bleak Dece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ach separate dying ember wrought its ghost upon the fl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ly I wished the morrow; — vainly I had tried to borr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y books surcease of sorrow — sorrow for the lost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re and radiant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ameless here for ever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silken sad uncertain rustling of each purple curta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illed me — filled me with fantastic terrors never felt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now, to still the beating of my heart, I stood repea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 entreating entrance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te visiter entreating entrance at my chamber door;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is it 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ly my soul grew stronger; hesitating then no long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r," said I, "or Madam, truly your forgiveness I impl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fact is I was napping, and so gently you came rapp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faintly you came tapping, tapping at my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 scarce was sure I heard you " — here I opened wide the door; 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arkness there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into that darkness peering, long I stood there wondering, fea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ting, dreaming dreams no mortal ever dared to dream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ilence was unbroken, and the darkness gave no t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only word there spoken was the whispered word, "Len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whispered, and an echo murmured back the word, "Lenore!"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rely this, and nothing 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to the chamber turning, all my soul within me burn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 I heard again a tapping somewhat louder than befor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urely," said I, "surely that is something at my window lattic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ee, then, what thereat is, and this mystery expl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y heart be still a moment and this mystery explore;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'Tis the wind and nothing more!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here I flung the shutter, when, with many a flirt and flutt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re stepped a stately raven of the saintly days of y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least obeisance made he; not an instant stopped or stayed h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ith mien of lord or lady, perched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hed upon a bust of Pallas just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ched, and sat,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bony bird beguiling my sad fancy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grave and stern decorum of the countenance it w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ough thy crest be shorn and shaven, thou," I said, "art sure no crav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astly grim and ancient raven wandering from the Nightly sh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what thy lordly name is on the Night's Plutonian sh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57:05Z</dcterms:created>
  <dc:creator>Matthew Cleveland</dc:creator>
  <dc:description/>
  <dc:language>en-US</dc:language>
  <cp:lastModifiedBy>Matthew Cleveland</cp:lastModifiedBy>
  <dcterms:modified xsi:type="dcterms:W3CDTF">2008-02-10T18:59:30Z</dcterms:modified>
  <cp:revision>2</cp:revision>
  <dc:subject/>
  <dc:title>Edgar Allan Poe</dc:title>
</cp:coreProperties>
</file>