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C3E-6269-4F11-886B-AD74FD60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603-E109-416C-B943-6E9DF259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06C-1E3B-4718-9296-3E5F9422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0BF-7B07-4C7E-9DCA-1E563602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561-F1FA-445F-A5AC-C931E46C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B09-0F36-44D1-8626-8C43B74C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9B5-ED3E-4FE2-80A7-0A6904DA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9C8-7242-487A-9555-4C8C6BF3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907-4B1B-4937-A897-75D7BA2C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60A-4D9E-4C42-92C4-995B6F4D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66A-3A2B-41A3-9465-FB2C31A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4B6-ED5A-4B7A-8D87-9608B27A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42A-4FA1-45C8-B28A-E1CDD5ABE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gar Allan P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I marvelled this ungainly fowl to hear discourse so plainly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 its answer little meaning — little relevancy bo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e cannot help agreeing that no sublunary be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 yet was blessed with seeing bird above his chamber door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 or beast upon the sculptured bust above his chamber doo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ith such name as "Nevermore.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raven, sitting lonely on the placid bust, spoke on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one word, as if his soul in that one word he did outpou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further then he uttered — not a feather then he fluttered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l I scarcely more than muttered "Other friends have flown bef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morrow he will leave me, as my hopes have flown before.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ndering at the stillness broken by reply so aptly spoke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ubtless," said I, "what it utters is its only stock and sto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ght from some unhappy master whom unmerciful Disas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ed fast and followed faster so when Hope he would adju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n Despair returned, instead of the sweet Hope he dared adju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at sad answer, "Never — 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raven still beguiling all my sad soul into smil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 I wheeled a cushioned seat in front of bird, and bust and door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pon the velvet sinking, I betook myself to link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ncy unto fancy, thinking what this ominous bird of y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is grim, ungainly, ghastly, gaunt and ominous bird of yo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eant in croaking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 sat engaged in guessing, but no syllable express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owl whose fiery eyes now burned into my bosom's cor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d more I sat divining, with my head at ease reclin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cushion's velvet lining that the lamp-light gloated o'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ose velvet violet lining with the lamp-light gloating o'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e shall press, ah, nevermor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methought, the air grew denser, perfumed from an unseen cens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ung by Angels whose faint foot-falls tinkled on the tufted floor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Wretch," I cried, "thy God hath lent thee — by these angels he hath sent the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te — respite and nepenthe, from thy memories of Lenore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me quaff this kind nepenthe and forget this lost Lenore!"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rophet!" said I, "thing of evil! — prophet still, if bird or devil!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empter sent, or whether tempest tossed thee here ashor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olate yet all undaunted, on this desert land enchanted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is home by Horror haunted — tell me truly, I implore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— is there balm in Gilead? — tell me — tell me, I implore!"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Prophet!" said I, "thing of evil — prophet still, if bird or devil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at Heaven that bends above us — by that God we both ad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is soul with sorrow laden if, within the distant Aiden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all clasp a sainted maiden whom the angels name Len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p a rare and radiant maiden whom the angels name Lenore.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Be that word our sign in parting, bird or fiend!" I shrieked, upstarting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Get thee back into the tempest and the Night's Plutonian shore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no black plume as a token of that lie thy soul hath spoken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my loneliness unbroken! — quit the bust above my door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y beak from out my heart, and take thy form from off my door!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upon a midnight dreary, while I pondered, weak and wear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many a quaint and curious volume of forgotten l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I nodded, nearly napping, suddenly there came a tapp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some one gently rapping, rapping at my chamber doo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'Tis some visiter," I muttered, "tapping at my chamber door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nly this, and nothing 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raven, never flitting, still is sitting, still is sitt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allid bust of Pallas just above my chamber door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s eyes have all the seeming of a demon that is dream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lamp-light o'er him streaming throws his shadow on the floor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y soul from out that shadow that lies floating on the flo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all be lifted — nevermor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, distinctly I remember it was in the bleak Dece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ach separate dying ember wrought its ghost upon the floor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ly I wished the morrow; — vainly I had tried to borr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my books surcease of sorrow — sorrow for the lost Len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re and radiant maiden whom the angels name Len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ameless here for evermo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silken sad uncertain rustling of each purple curta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illed me — filled me with fantastic terrors never felt befor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 now, to still the beating of my heart, I stood repeat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'Tis some visiter entreating entrance at my chamber door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ate visiter entreating entrance at my chamber door;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is it is, and nothing 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ly my soul grew stronger; hesitating then no longe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r," said I, "or Madam, truly your forgiveness I implo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fact is I was napping, and so gently you came rapp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faintly you came tapping, tapping at my chamber doo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 scarce was sure I heard you " — here I opened wide the door; —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arkness there and nothing mo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into that darkness peering, long I stood there wondering, fea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ting, dreaming dreams no mortal ever dared to dream befor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 silence was unbroken, and the darkness gave no toke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only word there spoken was the whispered word, "Lenore!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 whispered, and an echo murmured back the word, "Lenore!"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erely this, and nothing mor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nto the chamber turning, all my soul within me burn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 I heard again a tapping somewhat louder than befor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urely," said I, "surely that is something at my window lattice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see, then, what thereat is, and this mystery expl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y heart be still a moment and this mystery explore;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'Tis the wind and nothing more!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here I flung the shutter, when, with many a flirt and flutter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re stepped a stately raven of the saintly days of yor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he least obeisance made he; not an instant stopped or stayed h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with mien of lord or lady, perched above my chamber door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hed upon a bust of Pallas just above my chamber door —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erched, and sat, and nothing more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is ebony bird beguiling my sad fancy into smil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grave and stern decorum of the countenance it wor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hough thy crest be shorn and shaven, thou," I said, "art sure no crave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astly grim and ancient raven wandering from the Nightly shore —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what thy lordly name is on the Night's Plutonian shore!"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Quoth the raven "Nevermore.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8:57:05Z</dcterms:created>
  <dc:creator>Matthew Cleveland</dc:creator>
  <dc:description/>
  <dc:language>en-US</dc:language>
  <cp:lastModifiedBy>Matthew Cleveland</cp:lastModifiedBy>
  <dcterms:modified xsi:type="dcterms:W3CDTF">2008-02-10T18:59:30Z</dcterms:modified>
  <cp:revision>2</cp:revision>
  <dc:subject/>
  <dc:title>Edgar Allan Poe</dc:title>
</cp:coreProperties>
</file>