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86F-0634-4C3E-BE64-355FE408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ECFF-46FF-4310-A48F-1282C608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8EF-7831-470E-B1E3-3AA9AF77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EE8-DAA0-440B-BAF9-634B2F6B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1A90-8E48-4C54-B15A-A5F727DB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769-0870-4A05-813A-5D4B825E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1D5B-B684-4A9B-B11A-7468EEC5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3BB-392F-4F48-B086-AE826CCE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FD5-F3DA-48B7-8DF3-F9BAB2B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2E9-2DD6-4E5F-900C-9D32924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FEC-D23E-4340-AF4E-E411DF34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DC5-1932-465E-86AB-CD024341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E11-4139-48DC-A832-E90B7ACB0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terms.com/script/main/art.asp?articlekey=440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vard M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ream, 18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 and pastel on boa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 x 73.5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cream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scream be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gorapho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raphobi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abnormal and persistent fear of public places or open areas, especially those from which escape could be difficult or help not immediately accessible. Persons with agoraphobia frequently also ha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nic disor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, You Get To Make Your Own Screa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hoose to keep the landscape or make up your own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hoose to keep the person from the painting as the main character of the painting or, you can use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, students will use an 18 X 12 white paper. Students can choose whether they want to use water color or oil pas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quirements: students MUST be true to the strokes shown in the painting-I will demonstr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50:03Z</dcterms:created>
  <dc:creator>Littleton Prep</dc:creator>
  <dc:description/>
  <dc:language>en-US</dc:language>
  <cp:lastModifiedBy>Littleton Prep</cp:lastModifiedBy>
  <dcterms:modified xsi:type="dcterms:W3CDTF">2008-02-15T20:50:24Z</dcterms:modified>
  <cp:revision>1</cp:revision>
  <dc:subject/>
  <dc:title>Edvard Munch</dc:title>
</cp:coreProperties>
</file>