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31AE-26DB-4B87-9B33-60CD331A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D138-FFE1-4BA7-B11F-C1DAAABF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33D4-D3D9-4E5B-BCFD-12FC9A06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1A2D-39B0-47C2-B1AF-4B4F1BD2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83E9-0C57-4C4E-8659-7D14EA57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7F0A-2230-478B-AD98-11D9ABD7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FC94-E340-4963-ADB5-4DDE2318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8E24-3766-4614-826B-8ECD42F9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363C-1404-47C5-A55F-5ACD6FD8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DD2F-6F7F-4BB5-B403-CA3ECE96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83BE-B5C7-434B-897E-99A90F09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5DD3-8CA0-482C-A8E9-A6591C44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4D77-8905-43CC-85DC-47320105B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edterms.com/script/main/art.asp?articlekey=440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vard Mu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ream, 189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 and pastel on boar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1 x 73.5 c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57150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scream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the scream be he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goraphob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oraphobi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 abnormal and persistent fear of public places or open areas, especially those from which escape could be difficult or help not immediately accessible. Persons with agoraphobia frequently also hav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anic disor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, You Get To Make Your Own Scream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hoose to keep the landscape or make up your own land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hoose to keep the person from the painting as the main character of the painting or, you can use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, students will use an 18 X 12 white paper. Students can choose whether they want to use water color or oil pas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requirements: students MUST be true to the strokes shown in the painting-I will demonstra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FUN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20:50:03Z</dcterms:created>
  <dc:creator>Littleton Prep</dc:creator>
  <dc:description/>
  <dc:language>en-US</dc:language>
  <cp:lastModifiedBy>Littleton Prep</cp:lastModifiedBy>
  <dcterms:modified xsi:type="dcterms:W3CDTF">2008-02-15T20:50:24Z</dcterms:modified>
  <cp:revision>1</cp:revision>
  <dc:subject/>
  <dc:title>Edvard Munch</dc:title>
</cp:coreProperties>
</file>