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89B9-92A4-40EF-B1AF-2A1971F2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EBF4-EA74-4672-B99E-9B1D57B5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80F8-A670-48AF-969D-F6004811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1FFC-9DE2-425C-A675-14674C59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BE0-A0A4-4171-BCFE-47546ADD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474C-AB0E-4642-A568-06A0716F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53C1-6FC7-4BA2-9251-90C923C9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BF05-B72D-4332-AF68-F64DC7AB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2A53-CFBA-449B-A7F8-DEE5DA82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2E5-5BFA-4632-B74B-0CD5251E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467E-8251-4FED-B5A1-14A8BCF9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D7F6-7470-448D-A863-E2F6EC11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7B76-E326-4E86-ADE4-C2995210B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ward L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wl and the Pussy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543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Owl and the Pussy-cat went to se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In a beautiful pea green boat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took some honey, and plenty of money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Wrapped up in a five pound no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wl looked up to the stars abov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And sang to a small guitar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O lovely Pussy! O Pussy my lov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  What a beautiful Pussy you ar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      You ar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      You ar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 beautiful Pussy you are!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sy said to the Owl, 'You elegant fowl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How charmingly sweet you sing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let us be married! too long we have tarrie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But what shall we do for a ring?'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ailed away, for a year and a day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To the land where the Bong-tree grow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re in a wood a Piggy-wig stoo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With a ring at the end of his nos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      His nos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      His nos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ring at the end of his n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848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e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Dear pig, are you willing to sell for one shill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Your ring?' Said the Piggy, 'I will.'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ey took it away, and were married next da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By the Turkey who lives on the hil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dined on mince, and slices of quinc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Which they ate with a runcible spoon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and in hand, on the edge of the sand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They danced by the light of the mo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      The mo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      The mo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danced by the light of the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7696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8:29:23Z</dcterms:created>
  <dc:creator>Matthew Cleveland</dc:creator>
  <dc:description/>
  <dc:language>en-US</dc:language>
  <cp:lastModifiedBy>Matthew Cleveland</cp:lastModifiedBy>
  <dcterms:modified xsi:type="dcterms:W3CDTF">2008-02-10T18:30:07Z</dcterms:modified>
  <cp:revision>2</cp:revision>
  <dc:subject/>
  <dc:title>Edward Lear</dc:title>
</cp:coreProperties>
</file>