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429-71AF-4F52-9301-239F0EA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DE2-4016-46BA-B1F4-B4A4C4A7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096-E08A-4824-AA0D-031DF4BF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B68-5C45-4BF6-95BD-26740EA5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E34-74E3-48F6-8E47-AFA72EA6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EA2-ADCE-494D-8F55-5052218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E3B-F6A9-4151-A536-D1E2AF5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668-9201-484F-9817-A54AB4BE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C3B-006D-46FB-8C73-16A339EF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95-B425-4C11-860D-9474C622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867-224C-42C1-8696-954A6E8B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B82-045E-4D7C-B237-82CDF76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64B-9114-417F-8DA5-1C4029FF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ward 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l and the Pussy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543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Owl and the Pussy-cat went to se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In a beautiful pea green boa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took some honey, and plenty of mone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rapped up in a five pound no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wl looked up to the stars abo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And sang to a small guita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O lovely Pussy! O Pussy my lo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What a beautiful Pussy you a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You a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You ar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beautiful Pussy you are!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sy said to the Owl, 'You elegant fowl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How charmingly sweet you sing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let us be married! too long we have tarried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But what shall we do for a ring?'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ailed away, for a year and a d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To the land where the Bong-tree grow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re in a wood a Piggy-wig stoo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ith a ring at the end of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His n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ring at the end of his n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848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e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'Dear pig, are you willing to sell for one shill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Your ring?' Said the Piggy, 'I will.'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ey took it away, and were married next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By the Turkey who lives on the hi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ined on mince, and slices of quinc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Which they ate with a runcible spoon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nd in hand, on the edge of the san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They danced by the light of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        The mo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anced by the light of the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8:29:23Z</dcterms:created>
  <dc:creator>Matthew Cleveland</dc:creator>
  <dc:description/>
  <dc:language>en-US</dc:language>
  <cp:lastModifiedBy>Matthew Cleveland</cp:lastModifiedBy>
  <dcterms:modified xsi:type="dcterms:W3CDTF">2008-02-10T18:30:07Z</dcterms:modified>
  <cp:revision>2</cp:revision>
  <dc:subject/>
  <dc:title>Edward Lear</dc:title>
</cp:coreProperties>
</file>