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AE859-9DA1-48A6-B872-003D122BD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0AA50-428A-4E54-AFCA-3608DE91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2A373-E28B-46AA-8782-C0B59211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5EA87-5C36-43A7-BABE-71DE54C4E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6A1ED-EE17-4526-9B82-787A4CC4B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96FF2-7D7A-4289-A5E3-344490D65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402F7-8F29-4E12-AA49-CD039226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1DCEB-4E44-49E9-A23B-A47DBCDB6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895D-DB1D-4AA1-B4DB-7D3BF8AE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33CC-44BC-422A-85E8-C2587A639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5C378-37DF-4758-BB6B-DFDB8386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87BA1-278E-4177-AF46-387EE4038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244F-040E-4EA0-9689-79B238787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cwilsey</cp:lastModifiedBy>
  <dcterms:modified xsi:type="dcterms:W3CDTF">2008-04-07T15:17:06Z</dcterms:modified>
  <cp:revision>3</cp:revision>
  <dc:subject/>
  <dc:title>Egyptian Art</dc:title>
</cp:coreProperties>
</file>