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D9377-B032-4414-A826-1913DC55F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DF461-06BD-4236-AA5D-89E367716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779F0-37E3-4F43-9F5B-E0329B9C2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3372B-FF6A-4D54-A351-1F4823C12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025B5-36BF-4852-817D-E60E3BD86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3DA62-BF0B-4C9D-A96B-652F817C8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420BE-B3DB-4C24-8909-007AC3EEC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FF092-6454-4B70-A28C-EB120FC30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83CDE-750B-4215-AA6F-188C99378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7A29F-4AD1-47AB-8B00-A806D09E6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EFC91-CBB0-40EE-BE2C-3A9991C7C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1C24F-26B6-43CF-9CCD-DCA789BB5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D24C-6D41-4270-8FA8-77860FE6E2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s &amp; Principles of Ar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 is continually judged by these elements &amp; princi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we are finished with this project, you will have a critiqu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crit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be responsible for both participating in the critique and being able to define what it 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que- A visual or written discussion of a piece of art. Typically this discussion utilizes the elements and principles of art and positive and negative aspects of the piece of art. With negative remarks-it is always essential that the speaker frame things respectfully and offer helpful ad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you will be graded on this project</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Participation, effort and positive attitude during class ti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roject grade based on the elements and principles of desig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he quiz over the elements and principles that you will take BEFORE you start your projec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Your participation during the critique. You will be required to make at least 2 comments about other students’ work utilizing the elements and principles of design. You will also be required to talk about your own work utilizing the elements and principles of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we going to mak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going to use clay to make pinch pots or, coil pots (your choi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be required to sketch out your pot BEFORE you start on it. This way you have an idea of where you are going before you sta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then make your pot and I will put them all in the oven to bak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is, you will be able to paint your po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ly, we will have the crit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fu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pinch pots</a:t>
            </a:r>
            <a:endParaRPr b="0" lang="en-US" sz="4400" spc="-1" strike="noStrike">
              <a:solidFill>
                <a:srgbClr val="000000"/>
              </a:solidFill>
              <a:latin typeface="Arial"/>
            </a:endParaRPr>
          </a:p>
        </p:txBody>
      </p:sp>
      <p:pic>
        <p:nvPicPr>
          <p:cNvPr id="66" name="" descr=""/>
          <p:cNvPicPr/>
          <p:nvPr/>
        </p:nvPicPr>
        <p:blipFill>
          <a:blip r:embed="rId1"/>
          <a:stretch/>
        </p:blipFill>
        <p:spPr>
          <a:xfrm>
            <a:off x="533520" y="1676520"/>
            <a:ext cx="792468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1"/>
          <a:stretch/>
        </p:blipFill>
        <p:spPr>
          <a:xfrm>
            <a:off x="457200" y="304920"/>
            <a:ext cx="8229600" cy="586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57200" y="304920"/>
            <a:ext cx="8229600" cy="6019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57200" y="914400"/>
            <a:ext cx="8229600" cy="518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57200" y="762120"/>
            <a:ext cx="8229600" cy="533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447920" y="838080"/>
            <a:ext cx="6400800" cy="4953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685800" y="685800"/>
            <a:ext cx="739152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s of Ar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be responsible for: Texture and Color-the rest will be extra cred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609480" y="457200"/>
            <a:ext cx="800100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ur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rface of a material which can be experienced through touch/feel or, the piece of art can give the viewer the illusion that that if the viewer was able to touch the piece of art there would be a sensation of texture. Therefore, texture can apply to both 2-dimensional work and 3-dimensional work. If the texture is created to the extent that the viewer would be able to feel “texture” than we would call that “actual text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sual response to the wavelength of light identified as red, green, blue, and so on; having the physical properties of hue, intensity, and val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also be responsible for knowing the primary colors: red, yellow and bl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 colors: orange, purple and green and how to mix primary colors to make secondary col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les of Ar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mo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e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in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be responsible for harmony, balance and vari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rmony</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mony is achieved by the repetition of characteristics that are the same or similar. This is also a means to create 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se of equilibrium achieved through implied or actual weight, attention or attraction. Symmetrical balance has the “same thing” on both sides. Asymmetrical balance has “different things” but they “weigh” the s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et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achieved by opposing, contrasting, changing, elaborating, or diversifying elements in a composition to add individualism and inte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will be working with clay for the next project!</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s you will need to know to work with cl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Manipulation: The sculptural technique for shaping pliable materials with hands or/and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ubtraction: The “taking away” of a materials. The “cutting” a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5T23:37:10Z</dcterms:created>
  <dc:creator>Matthew Cleveland</dc:creator>
  <dc:description/>
  <dc:language>en-US</dc:language>
  <cp:lastModifiedBy>Littleton Prep</cp:lastModifiedBy>
  <dcterms:modified xsi:type="dcterms:W3CDTF">2007-11-28T16:29:03Z</dcterms:modified>
  <cp:revision>3</cp:revision>
  <dc:subject/>
  <dc:title>Elements &amp; Principles of Art</dc:title>
</cp:coreProperties>
</file>