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9DE80-1CF9-47D2-B47B-1EA94D162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6284-B7EC-4047-B440-2FD6923D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B30DC-8930-42F9-B50C-0D120BD8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54A6C-5E30-4B28-AAA5-8D0C66498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CE28E-FC92-455D-8962-6E203E4B1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172D-EE9C-4EEE-9634-331635552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FC49-FFF1-4883-A4FC-8483BB97F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0D62-92CF-40FB-A8D1-EF6BFF2A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9B7E0-4D8E-49F4-8A78-9055C1402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62244-72AB-44F9-9A4C-B61BA0F18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53B9-D70F-4062-9A7F-72666F2F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16D95-B199-4C94-A891-33080A3DC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486D-9497-46BF-BBDA-30A4F52B3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amp; Principles of 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is continually judged by these elements &amp; princi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we are finished with this project, you will have a critiqu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both participating in the critique and being able to define what it 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que- A visual or written discussion of a piece of art. Typically this discussion utilizes the elements and principles of art and positive and negative aspects of the piece of art. With negative remarks-it is always essential that the speaker frame things respectfully and offer helpful ad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you will be graded on this projec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articipation, effort and positive attitude during class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roject grade based on the elements and principles of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quiz over the elements and principles that you will take BEFORE you start your pro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Your participation during the critique. You will be required to make at least 2 comments about other students’ work utilizing the elements and principles of design. You will also be required to talk about your own work utilizing the elements and principles of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we going to mak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going to use clay to make pinch pots or, coil pots (your cho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quired to sketch out your pot BEFORE you start on it. This way you have an idea of where you are going before you st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then make your pot and I will put them all in the oven to bak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is, you will be able to paint your po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ly, we will have the crit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fu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pinch pots</a:t>
            </a:r>
            <a:endParaRPr b="0" lang="en-US" sz="4400" spc="-1" strike="noStrike">
              <a:solidFill>
                <a:srgbClr val="000000"/>
              </a:solidFill>
              <a:latin typeface="Arial"/>
            </a:endParaRPr>
          </a:p>
        </p:txBody>
      </p:sp>
      <p:pic>
        <p:nvPicPr>
          <p:cNvPr id="66" name="" descr=""/>
          <p:cNvPicPr/>
          <p:nvPr/>
        </p:nvPicPr>
        <p:blipFill>
          <a:blip r:embed="rId1"/>
          <a:stretch/>
        </p:blipFill>
        <p:spPr>
          <a:xfrm>
            <a:off x="533520" y="167652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457200" y="3049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304920"/>
            <a:ext cx="8229600" cy="601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 y="914400"/>
            <a:ext cx="8229600" cy="518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457200" y="762120"/>
            <a:ext cx="822960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47920" y="838080"/>
            <a:ext cx="640080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685800" y="685800"/>
            <a:ext cx="739152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s of A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be responsible for: Texture and Color-the rest will be extra cred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09480" y="45720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u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rface of a material which can be experienced through touch/feel or, the piece of art can give the viewer the illusion that that if the viewer was able to touch the piece of art there would be a sensation of texture. Therefore, texture can apply to both 2-dimensional work and 3-dimensional work. If the texture is created to the extent that the viewer would be able to feel “texture” than we would call that “actual text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sual response to the wavelength of light identified as red, green, blue, and so on; having the physical properties of hue, intensity, and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also be responsible for knowing the primary colors: red, yellow and b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colors: orange, purple and green and how to mix primary colors to make secondary col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les of Ar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mo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be responsible for harmony, balance and var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mony</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mony is achieved by the repetition of characteristics that are the same or similar. This is also a means to create un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nse of equilibrium achieved through implied or actual weight, attention or attraction. Symmetrical balance has the “same thing” on both sides. Asymmetrical balance has “different things” but they “weigh”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e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achieved by opposing, contrasting, changing, elaborating, or diversifying elements in a composition to add individualism and inte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will be working with clay for the next project!</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you will need to know to work with cl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anipulation: The sculptural technique for shaping pliable materials with hands or/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ubtraction: The “taking away” of a materials. The “cutting”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5T23:37:10Z</dcterms:created>
  <dc:creator>Matthew Cleveland</dc:creator>
  <dc:description/>
  <dc:language>en-US</dc:language>
  <cp:lastModifiedBy>Littleton Prep</cp:lastModifiedBy>
  <dcterms:modified xsi:type="dcterms:W3CDTF">2007-11-28T16:29:03Z</dcterms:modified>
  <cp:revision>3</cp:revision>
  <dc:subject/>
  <dc:title>Elements &amp; Principles of Art</dc:title>
</cp:coreProperties>
</file>