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B20-06CA-4388-A9E5-EEC9013D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298-0F7D-4D3F-9943-BFB9C489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FCE-E901-4B84-B506-D0365A69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167-E06F-403A-9E9C-94C448F0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05C-E3FA-4006-87F4-FE7FF404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3E14-D1E5-4104-85CF-77472535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0E5-DEB8-468F-BC6D-CE6CEE8A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98F-47E4-4E6C-A0F6-D07179F4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AB9-435D-4559-BD4A-B362F74A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D25-486B-4BD0-8345-8E12A6DB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77A-2686-4FD4-B1FD-BCDED3F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96C-DBEB-4D80-9B51-6867161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757B-44F5-40DC-9FBE-21A8A0412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e! I'm expecting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! I'm expecting you! Was saying Yesterday To Somebody you know That you were du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ogs got Home last Week - Are settled, and at work - Birds, mostly back - The Clover warm and thick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ll get my Letter by The seventeenth; Reply Or better, be with me - Yours, F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ite paper 12 X 18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 the paper vertically “up and dow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ve the students make: Bees, grass, flower stems and flower leaves (but NOT the actual flower), and landscap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the students use crayons to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ve each student use a yellow water color “wash” on the paper after finished coloring-the wash will not affect the sections that are covered with cra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astly, have the students use tissue paper to make the flowers and staple them on-each student should only get one because each flower should be quit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0:22:16Z</dcterms:created>
  <dc:creator>Littleton Prep</dc:creator>
  <dc:description/>
  <dc:language>en-US</dc:language>
  <cp:lastModifiedBy>Littleton Prep</cp:lastModifiedBy>
  <dcterms:modified xsi:type="dcterms:W3CDTF">2008-02-15T20:35:34Z</dcterms:modified>
  <cp:revision>3</cp:revision>
  <dc:subject/>
  <dc:title>Emily Dickinson </dc:title>
</cp:coreProperties>
</file>