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2D1-4C5D-4549-96B0-CF434AC1B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1CC-6ABA-45A5-913D-43384C19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170-A0F9-4FBC-93FE-A3BFB84E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CC5-7000-4AA5-9CD4-3DF7209B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742-3CF8-447D-A900-45259FAE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265-04CA-4048-80CE-A4630D74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D92-61A3-4491-8962-E3C5402B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312-9D6E-4525-AB4F-69140699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11F-4A2A-4136-9FDC-58C64B41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194-1AB0-47D6-99FD-B81DC037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8A2-3DAF-4C6D-A541-DEF8677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DC7-B285-4F63-BB3D-BD16C2A8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643E-D41D-4A27-87DB-66CE59232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emofquotes.com/emilydickinson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e! I'm expecting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! I'm expecting you! Was saying Yesterday To Somebody you know That you were due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ogs got Home last Week - Are settled, and at work - Birds, mostly back - The Clover warm and thick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mily Dickin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'll get my Letter by The seventeenth; Reply Or better, be with me - Yours, F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ite paper 12 X 18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 the paper vertically “up and dow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ve the students make: Bees, grass, flower stems and flower leaves (but NOT the actual flower), and landscap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the students use crayons to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ve each student use a yellow water color “wash” on the paper after finished coloring-the wash will not affect the sections that are covered with cra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astly, have the students use tissue paper to make the flowers and staple them on-each student should only get one because each flower should be quit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22:16Z</dcterms:created>
  <dc:creator>Littleton Prep</dc:creator>
  <dc:description/>
  <dc:language>en-US</dc:language>
  <cp:lastModifiedBy>Littleton Prep</cp:lastModifiedBy>
  <dcterms:modified xsi:type="dcterms:W3CDTF">2008-02-15T20:35:34Z</dcterms:modified>
  <cp:revision>3</cp:revision>
  <dc:subject/>
  <dc:title>Emily Dickinson </dc:title>
</cp:coreProperties>
</file>