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E1DB-B6AC-4C53-BB75-4C8A31BCC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86E0-C29A-4BEB-A275-829684DD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DE5D-2E5F-483A-BE07-094DCA77D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48DB-7D6F-44C5-8390-06B0C8519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CF23-6702-408F-97B4-E65E6997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15C9-8767-4828-A3DA-B94383BA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46AF-3A79-4959-87A6-28B9F55E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896F-6A98-4671-AADA-E5DE3ADB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A172-CE98-4952-A650-58934DBA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833A-7AB6-45E1-879E-7EB93D06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B2EE-B64A-4FB7-92B2-8B6C76B1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544A-ADDF-485B-BF9C-036598A1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30E6-DB3E-47DD-8DD1-EEE3C7362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emofquotes.com/emilydickinson/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oemofquotes.com/emilydickinson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oemofquotes.com/emilydickinson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oemofquotes.com/emilydickinson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mily Dickinson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e! I'm expecting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mily Dickins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e! I'm expecting you! Was saying Yesterday To Somebody you know That you were due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mily Dickins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ogs got Home last Week - Are settled, and at work - Birds, mostly back - The Clover warm and thick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mily Dickins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'll get my Letter by The seventeenth; Reply Or better, be with me - Yours, F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ite paper 12 X 18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lace the paper vertically “up and dow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ave the students make: grass, flower stems and flower leaves (but NOT the actual flower), and landscape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ave the students use crayons to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Have each student use a yellow water color “wash” on the paper after finished coloring-the wash will not affect the sections that are covered with cra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lastly, have the students use tissue paper to make the flowers and staple them on-each student should only get one because each flower should be quite l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3880" y="1500120"/>
            <a:ext cx="60962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20:22:16Z</dcterms:created>
  <dc:creator>Littleton Prep</dc:creator>
  <dc:description/>
  <dc:language>en-US</dc:language>
  <cp:lastModifiedBy>Littleton Prep</cp:lastModifiedBy>
  <dcterms:modified xsi:type="dcterms:W3CDTF">2008-02-25T20:08:20Z</dcterms:modified>
  <cp:revision>3</cp:revision>
  <dc:subject/>
  <dc:title>Emily Dickinson </dc:title>
</cp:coreProperties>
</file>