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9FA-5E17-4851-95EB-B3D689C8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F25-8687-423F-8DC5-D76A47EE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2C9-5D95-4F9B-A18C-2840515D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FA1-2C98-4BC0-BCFA-B29AAA1A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447-F366-4119-8636-69A31C2D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319-5D65-440E-9248-252700EE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029-26A9-4AB8-9C79-D833A0CC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1E0-A94B-4301-8F23-4AAC3B73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590-09CB-492C-BC65-8E701051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EF6-F64B-4826-9E6D-F0DCAD93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507-EF6C-4DB1-9E7D-47CB53A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4CA-99E9-4EFF-B79B-0870B8E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4307-08AC-498A-B77F-4463CC1F6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e! I'm expecting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! I'm expecting you! Was saying Yesterday To Somebody you know That you were du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ogs got Home last Week - Are settled, and at work - Birds, mostly back - The Clover warm and thick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ll get my Letter by The seventeenth; Reply Or better, be with me - Yours, F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ite paper 12 X 18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 the paper vertically “up and dow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ve the students make: grass, flower stems and flower leaves (but NOT the actual flower), and landscap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the students use crayons to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ve each student use a yellow water color “wash” on the paper after finished coloring-the wash will not affect the sections that are covered with cra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astly, have the students use tissue paper to make the flowers and staple them on-each student should only get one because each flower should be quit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1500120"/>
            <a:ext cx="6096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22:16Z</dcterms:created>
  <dc:creator>Littleton Prep</dc:creator>
  <dc:description/>
  <dc:language>en-US</dc:language>
  <cp:lastModifiedBy>Littleton Prep</cp:lastModifiedBy>
  <dcterms:modified xsi:type="dcterms:W3CDTF">2008-02-25T20:08:20Z</dcterms:modified>
  <cp:revision>3</cp:revision>
  <dc:subject/>
  <dc:title>Emily Dickinson </dc:title>
</cp:coreProperties>
</file>