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FAC-E045-44A4-A290-3224CEDE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63A-6036-446C-87F3-65D77F4E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2AE-9994-42E9-9BA4-DB01C820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929-C1EE-4268-B86F-E77E09C4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628-EB63-4182-AA4C-71A24704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266-BC0E-43CB-9F10-F97E9FB8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D70-DCC3-47AD-AC8C-717055C6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2A8-B5D1-4613-ABD6-2881B9C7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A27-C42F-4BEC-8690-AAECCF60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8FF-FE17-404F-997B-A59FE3F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AD1-8673-4D75-8C14-343C9E48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30D-308D-43AD-BAE0-A696157B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784B-4346-476B-8F76-88131F5D9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bald McNeal Willard (1836-1918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ed “Yankee Doodle” which was later renamed, “Spirit of 76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Historians do not consider this high or fine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 American public lov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ard is said to have painted 4 different versions of this piece-probably resulting in another reason that this is not considered “fine 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81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it of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think that the American people at the time liked this piece so mu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: American Revolution: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buil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hotograph:North portico of the White House, Washington, D.C."/>
          <p:cNvPicPr/>
          <p:nvPr/>
        </p:nvPicPr>
        <p:blipFill>
          <a:blip r:embed="rId1"/>
          <a:stretch/>
        </p:blipFill>
        <p:spPr>
          <a:xfrm>
            <a:off x="1981080" y="1676520"/>
            <a:ext cx="523872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think that both of these things exemplify American Pr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have at school to show our p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ffin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right, we are going to color our griffins and make a seal out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dd other symbols to the Griffin! Color it, cut it out, glue it onto your construction paper and create your own LP se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1:42:59Z</dcterms:created>
  <dc:creator>Matthew Cleveland</dc:creator>
  <dc:description/>
  <dc:language>en-US</dc:language>
  <cp:lastModifiedBy>Matthew Cleveland</cp:lastModifiedBy>
  <dcterms:modified xsi:type="dcterms:W3CDTF">2007-11-25T22:01:43Z</dcterms:modified>
  <cp:revision>2</cp:revision>
  <dc:subject/>
  <dc:title>Archibald McNeal Willard (1836-1918) </dc:title>
</cp:coreProperties>
</file>