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672E-AD5A-4413-8991-50B26229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0E7D-FA5B-465C-849E-2A0D0AF4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0868-F0B4-4075-BA90-B911CAEF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B187-0320-4004-BFEF-90149875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B1BF-4ACA-4C62-99CA-890B71B0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2EDF-29E0-4D08-817F-537D999C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0B7B-5572-4F65-A0DE-187A33B5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137C-4AE1-4042-9512-0356D767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C53D-4BC0-41E3-A96D-3A2217E6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AAE1-48A6-4794-B2AB-F1039327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17F4-A14B-487D-89B4-6638A7A2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86F4-18FE-404D-9D9B-2AE81A95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0A24-454F-43DC-BF81-5A1919F77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bald McNeal Willard (1836-1918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ed “Yankee Doodle” which was later renamed, “Spirit of 76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 Historians do not consider this high or fine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the American public loved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ard is said to have painted 4 different versions of this piece-probably resulting in another reason that this is not considered “fine ar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1814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rit of 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you think that the American people at the time liked this piece so mu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s: American Revolution: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 build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Photograph:North portico of the White House, Washington, D.C."/>
          <p:cNvPicPr/>
          <p:nvPr/>
        </p:nvPicPr>
        <p:blipFill>
          <a:blip r:embed="rId1"/>
          <a:stretch/>
        </p:blipFill>
        <p:spPr>
          <a:xfrm>
            <a:off x="1981080" y="1676520"/>
            <a:ext cx="523872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think that both of these things exemplify American Pr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we have at school to show our pr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iffin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 right, we are going to color our griffins and make a seal out of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dd other symbols to the Griffin! Color it, cut it out, glue it onto your construction paper and create your own LP sea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21:42:59Z</dcterms:created>
  <dc:creator>Matthew Cleveland</dc:creator>
  <dc:description/>
  <dc:language>en-US</dc:language>
  <cp:lastModifiedBy>Matthew Cleveland</cp:lastModifiedBy>
  <dcterms:modified xsi:type="dcterms:W3CDTF">2007-11-25T22:01:43Z</dcterms:modified>
  <cp:revision>2</cp:revision>
  <dc:subject/>
  <dc:title>Archibald McNeal Willard (1836-1918) </dc:title>
</cp:coreProperties>
</file>