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1B599-17F1-4244-98A4-BB75C3792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9C172-13A8-4837-B7CF-0EFB927A3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4BF01-AF48-4571-9DAB-116E0750C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1E0B9-8156-461E-9D81-B9F95E07D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8433A-825C-426F-8DD6-1929F8876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BAED0-A8E6-47B5-9DD2-77DA42D15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B4E9A-8823-4281-9044-95A9D5395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135CB-DFA8-4BC4-AA0E-37D4649C5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62607-188A-4591-A31A-D5ABAA62A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A0993-2B69-46E3-B2A4-55A6A3C74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BE79F-AB96-47DF-8A56-CE3883C03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76C0A-FD32-49F9-9267-DE6AB0821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9272B-FE42-47C2-8691-0A4E1A797E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orgia O'Keeffe</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rgia was born in Sun Prairie, Wisconsin, on November 15, 1887. Ida Totto O'Keeffe was her mother. Frank O'Keeffe was her father. She lived on a busy farm. She is famous for her flowers, shells, and b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orgia O'Keeffe</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rgia loved her fantasy world", her mother said. She was married to Alfred Stieglitz. He was a photographer, and he ran a small gallery called 291. Georgia went through lots of phases like the "blue lines phase". Georgia O'Keeffe painted until she was almost blind and lived in the desert until her death, in 1986, at the age of ninety-eight. She draws beautiful paintings. It's wonderful! ... by Bri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orgia O'Keeffe: Red Hills and White Sand</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Red Hills with White Shell, c.1938 Art Print by Georgia O'keeffe"/>
          <p:cNvPicPr/>
          <p:nvPr/>
        </p:nvPicPr>
        <p:blipFill>
          <a:blip r:embed="rId1"/>
          <a:stretch/>
        </p:blipFill>
        <p:spPr>
          <a:xfrm>
            <a:off x="457200" y="1600200"/>
            <a:ext cx="5638680" cy="441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orgia O'Keeffe: </a:t>
            </a:r>
            <a:br>
              <a:rPr sz="2800"/>
            </a:br>
            <a:r>
              <a:rPr b="1" lang="en-US" sz="2800" spc="-1" strike="noStrike">
                <a:solidFill>
                  <a:srgbClr val="000000"/>
                </a:solidFill>
                <a:latin typeface="Arial"/>
              </a:rPr>
              <a:t>Yellow Shell on a Beach</a:t>
            </a:r>
            <a:br>
              <a:rPr sz="2800"/>
            </a:br>
            <a:r>
              <a:rPr b="1" lang="en-US" sz="2800" spc="-1" strike="noStrike">
                <a:solidFill>
                  <a:srgbClr val="000000"/>
                </a:solidFill>
                <a:latin typeface="Arial"/>
              </a:rPr>
              <a:t>by Kasilyn J. </a:t>
            </a:r>
            <a:br>
              <a:rPr sz="2800"/>
            </a:br>
            <a:endParaRPr b="0" lang="en-US" sz="2800" spc="-1" strike="noStrike">
              <a:solidFill>
                <a:srgbClr val="000000"/>
              </a:solidFill>
              <a:latin typeface="Arial"/>
            </a:endParaRPr>
          </a:p>
        </p:txBody>
      </p:sp>
      <p:sp>
        <p:nvSpPr>
          <p:cNvPr id="49" name="PlaceHolder 2"/>
          <p:cNvSpPr>
            <a:spLocks noGrp="1"/>
          </p:cNvSpPr>
          <p:nvPr>
            <p:ph/>
          </p:nvPr>
        </p:nvSpPr>
        <p:spPr>
          <a:xfrm>
            <a:off x="228600" y="1676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228600" y="1676520"/>
            <a:ext cx="4514760" cy="3066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orgia O'Keeffe:The Shell On Beach</a:t>
            </a:r>
            <a:br>
              <a:rPr sz="2800"/>
            </a:br>
            <a:r>
              <a:rPr b="1" lang="en-US" sz="2800" spc="-1" strike="noStrike">
                <a:solidFill>
                  <a:srgbClr val="000000"/>
                </a:solidFill>
                <a:latin typeface="Arial"/>
              </a:rPr>
              <a:t>by Matthew S. </a:t>
            </a:r>
            <a:br>
              <a:rPr sz="2800"/>
            </a:b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457200" y="1600200"/>
            <a:ext cx="525780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orgia O'Keeffe: Shell</a:t>
            </a:r>
            <a:br>
              <a:rPr sz="2800"/>
            </a:br>
            <a:r>
              <a:rPr b="1" lang="en-US" sz="2800" spc="-1" strike="noStrike">
                <a:solidFill>
                  <a:srgbClr val="000000"/>
                </a:solidFill>
                <a:latin typeface="Arial"/>
              </a:rPr>
              <a:t>by Moriya F. </a:t>
            </a:r>
            <a:br>
              <a:rPr sz="2800"/>
            </a:br>
            <a:endParaRPr b="0" lang="en-US" sz="2800" spc="-1" strike="noStrike">
              <a:solidFill>
                <a:srgbClr val="000000"/>
              </a:solidFill>
              <a:latin typeface="Arial"/>
            </a:endParaRPr>
          </a:p>
        </p:txBody>
      </p:sp>
      <p:sp>
        <p:nvSpPr>
          <p:cNvPr id="55"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380880" y="1447920"/>
            <a:ext cx="510552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15:34:53Z</dcterms:created>
  <dc:creator>Littleton Prep</dc:creator>
  <dc:description/>
  <dc:language>en-US</dc:language>
  <cp:lastModifiedBy>Littleton Prep</cp:lastModifiedBy>
  <dcterms:modified xsi:type="dcterms:W3CDTF">2008-05-06T15:36:50Z</dcterms:modified>
  <cp:revision>2</cp:revision>
  <dc:subject/>
  <dc:title>Georgia O'Keeffe </dc:title>
</cp:coreProperties>
</file>