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9F7F1-BF1A-49CD-B1CC-120EE1C7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E0E07-E555-4D7A-93FC-00A6DAC01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30099-FC1B-4B72-B8D0-DAD9F4C47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3D6F3-99AC-4B8C-B3C3-BC340CE08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890D9-A7E2-40AE-80CD-F033366AD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5333-219B-49BB-A394-86C6B4046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A8E5-239F-440F-A677-E77F7E9F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BA771-24DF-4F8F-959E-75A290DC0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536A2-95C3-4D85-9DB0-2339BE02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7B3B-2300-4BBC-A5F0-8DDE5702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C145-21CC-4B17-A340-3870B848B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1F6F6-2907-4C5E-BD26-0E22E7DE8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6775-B1C6-4253-8CDE-A8B8D61C70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georgewashington.si.edu/portrait/non-flash.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bert Stuart:1755-1828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George Washington: 17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George Washington (Lansdowne portrait) by Gilbert Stuart, oil on canvas, 1796">
            <a:hlinkClick r:id="rId1"/>
          </p:cNvPr>
          <p:cNvPicPr/>
          <p:nvPr/>
        </p:nvPicPr>
        <p:blipFill>
          <a:blip r:embed="rId2"/>
          <a:stretch/>
        </p:blipFill>
        <p:spPr>
          <a:xfrm>
            <a:off x="1905120" y="0"/>
            <a:ext cx="4876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Washington was commander in chief of the Continental army during the American Revolution and first president of the United States (1789-97).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n in Westmoreland County, Va., on Feb. 22, 1732, George Washington was the eldest son of Augustine Washington and his second wife, Mary Ball Washington, who were prosperous Virginia gentry of English descent. George spent his early years on the family estate on Pope's Creek along the Potomac River. His early education included the study of such subjects as mathematics, surveying, the classics, and "rules of civility." His father died in 1743, and soon thereafter George went to live with his half brother Lawrence at Mount Vernon, Lawrence's plantation on the Potomac. Lawrence, who became something of a substitute father for his brother, had married into the Fairfax family, prominent and influential Virginians who helped launch George's care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are going to re-create this famous portrai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given a large sheet of white pap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place it vertically (up and down) on the 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out a ru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where the middle occurs vertically and horizont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ULER to help you draw the straight lines down the midd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same thing on your copy of the portr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help you to center the picture and draw it accurately-but remember just do the best you 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6:43:34Z</dcterms:created>
  <dc:creator>Littleton Prep</dc:creator>
  <dc:description/>
  <dc:language>en-US</dc:language>
  <cp:lastModifiedBy>Littleton Prep</cp:lastModifiedBy>
  <dcterms:modified xsi:type="dcterms:W3CDTF">2008-03-11T16:50:07Z</dcterms:modified>
  <cp:revision>1</cp:revision>
  <dc:subject/>
  <dc:title>Gilbert Stuart:1755-1828 </dc:title>
</cp:coreProperties>
</file>