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ED4-187B-482B-8555-67F01159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522-2000-4043-88AB-177EDCE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0FE-E68A-493C-B13E-77CC3B57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AA6-221A-4B2C-B390-BA5B4FDC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129-47EA-44D1-8EB6-431EFF27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9FD-FBB3-41E8-B820-FD195254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826-974C-4288-9E92-7424356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32F-9E34-49E0-9F7E-D743957A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976-DEBF-4DA3-BA7E-68880694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33F-A0E8-443D-B1E3-FE0EE84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E0E-499E-4ABC-9C7A-97751260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DB5-0178-495F-842D-68F5660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8B4E-7BFF-48B1-8CB5-50A9491AD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Matisse: (1869-195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le Robe: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usually wear a ro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ther things that we wear around the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wear pajamas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favorite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dy Bear wearing pajama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1:58:55Z</dcterms:created>
  <dc:creator>Littleton Prep</dc:creator>
  <dc:description/>
  <dc:language>en-US</dc:language>
  <cp:lastModifiedBy>Littleton Prep</cp:lastModifiedBy>
  <dcterms:modified xsi:type="dcterms:W3CDTF">2008-02-15T21:59:11Z</dcterms:modified>
  <cp:revision>1</cp:revision>
  <dc:subject/>
  <dc:title>Henry Matisse: (1869-1954) </dc:title>
</cp:coreProperties>
</file>