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50A-1072-43B3-BCB9-56F35689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551-BB1D-4A55-8E4E-5F9D478A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7BD-5AB5-466A-A23C-1F00ACA8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0E8-50B1-48D9-8D97-37BB9CB7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C49-8060-4A26-A572-20D4C328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744-8FF2-43CA-A96D-ADE88F4E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95C-8203-424E-90BE-7A61E337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BB7-30B6-4F9F-AE55-92951B9B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C66-A59A-4CB8-AD79-6F0AB308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762-ACC6-4FA7-B962-3B90DF84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71C-723B-4C66-AB14-79443A82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10A-373E-4E21-ABAA-68AF6892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2EDB-09B5-45C8-A465-032BFA845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Matisse: (1869-195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le Robe: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257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we usually wear a ro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ther things that we wear around the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paja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wear pajamas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r favorite paja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dy Bear wearing pajama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1:58:55Z</dcterms:created>
  <dc:creator>Littleton Prep</dc:creator>
  <dc:description/>
  <dc:language>en-US</dc:language>
  <cp:lastModifiedBy>Littleton Prep</cp:lastModifiedBy>
  <dcterms:modified xsi:type="dcterms:W3CDTF">2008-02-15T21:59:11Z</dcterms:modified>
  <cp:revision>1</cp:revision>
  <dc:subject/>
  <dc:title>Henry Matisse: (1869-1954) </dc:title>
</cp:coreProperties>
</file>