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B033-ADAF-44DF-8E2F-96EF3974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B9B7-6EF5-47CE-91C0-0E21B2D3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3FC4-D1AB-4179-B4E7-076990F0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9F01-6B10-43FF-9320-B35045F0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923E-4CC9-408C-89B6-CA850178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668-6BBE-48B0-A70B-E13EE76F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ABBA-A470-41CF-B9B8-0DE94BAB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5337-9CE4-473B-A90B-1784ED32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4DE5-8325-442F-8D73-4D9FAC2E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7C07-8A08-4ED8-A10A-DBDBA7D6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C8E6-093B-45C3-BFC8-E8D270EF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6991-E688-48E8-9E39-9D2E9E99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E7EA-CCB8-4D67-956B-E3E833AB7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Draw Hand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ope that this help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part #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952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Hands Part #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876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Hands Part #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8862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Hands Part #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64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Hands Part #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5562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9:17Z</dcterms:created>
  <dc:creator>Littleton Prep</dc:creator>
  <dc:description/>
  <dc:language>en-US</dc:language>
  <cp:lastModifiedBy>Littleton Prep</cp:lastModifiedBy>
  <dcterms:modified xsi:type="dcterms:W3CDTF">2008-10-13T15:19:34Z</dcterms:modified>
  <cp:revision>1</cp:revision>
  <dc:subject/>
  <dc:title>How To Draw Hands!</dc:title>
</cp:coreProperties>
</file>