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5CA-3793-4068-8965-414B731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594-566E-4FEB-AF7F-91BF7B7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302-BCA4-4D2B-8CDB-E88BBC06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B7E-E7AB-4757-B6F9-2F49F173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825-9460-4770-8794-3B963C1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7CC-A194-48B9-9D07-C987614B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409-C309-4201-B232-9F1EBD64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86E-9E7F-47AF-9F42-8FCE7FC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741-0894-48D3-AE80-E61C8EBE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D7E-D98C-48EB-80F1-D9404FBA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3ED-A872-4569-8652-A47FC9C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A90-2B24-4888-A088-97035EF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852-4461-46B0-B916-2EC30D53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raw Ha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ope that this help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part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562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9:17Z</dcterms:created>
  <dc:creator>Littleton Prep</dc:creator>
  <dc:description/>
  <dc:language>en-US</dc:language>
  <cp:lastModifiedBy>Littleton Prep</cp:lastModifiedBy>
  <dcterms:modified xsi:type="dcterms:W3CDTF">2008-10-13T15:19:34Z</dcterms:modified>
  <cp:revision>1</cp:revision>
  <dc:subject/>
  <dc:title>How To Draw Hands!</dc:title>
</cp:coreProperties>
</file>