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9BF-0B83-4A57-95ED-B991DCAC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E14-9D16-4155-808B-FBD93BB7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7D1-D5A5-462D-ABB3-9152DB87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271-D61F-4D95-8631-3AA773DE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E7A-DDE2-4264-8D33-060A0409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C0D-D6C3-4A3A-87AA-E0507C86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97D8-9927-43C7-A524-97BC6BDE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FEA-4407-4C35-90FB-359AF991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3D07-7E8D-4274-B1C9-E563FF70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9CF4-139B-49A3-A196-8BBF18F6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D94-A19B-4AE9-A8CA-61E93882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5E3-F971-483C-A852-C14B7780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D7DF-8F63-4F6E-84B4-ADD3B1E5E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rtcyclopedia.com/history/harlem-renaissance.html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 Lawr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-America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rlem Renaissan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Painter, 1917-2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 Law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rence, Jacob, 1917–2000, American painter, b. Atlantic City, N.J. In Lawrence's work social themes, often detailing the African-American experience, are expressed in colorfully angular, simplified, expressive, and richly decorative figurative effects. He executed many cycles of paintings, often narrati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Jacob Lawrence - Parade - Art Prints and Posters"/>
          <p:cNvPicPr/>
          <p:nvPr/>
        </p:nvPicPr>
        <p:blipFill>
          <a:blip r:embed="rId1"/>
          <a:stretch/>
        </p:blipFill>
        <p:spPr>
          <a:xfrm>
            <a:off x="914400" y="1676520"/>
            <a:ext cx="57913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You Get TO Make Your Own Parad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s of things do we see at para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imes of year do we have para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what occa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ist on the back of your paper of things that you have seen in pa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ist of what kinds of parades you have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LIGHT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5:31:51Z</dcterms:created>
  <dc:creator>Littleton Prep</dc:creator>
  <dc:description/>
  <dc:language>en-US</dc:language>
  <cp:lastModifiedBy>Littleton Prep</cp:lastModifiedBy>
  <dcterms:modified xsi:type="dcterms:W3CDTF">2008-03-11T19:31:05Z</dcterms:modified>
  <cp:revision>1</cp:revision>
  <dc:subject/>
  <dc:title>Jacob Lawrence </dc:title>
</cp:coreProperties>
</file>