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37DD-CA85-48B6-8454-95BAAE2F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721D-28BA-4E72-B7AA-D3394660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D630-CAB4-4376-97AB-C20A469C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271A-7E74-49FE-AA5B-65E35FAA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F57F-239C-41D7-AD01-7698548B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5E7E-0F14-4E1C-97F8-16AAFA6E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3BFD-D836-414E-B2BF-054FFA8F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E963-07DE-4DE1-92AC-F150CF27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4750-7C15-43B7-AF45-A19CDA7F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27D2-71C6-4B4B-A011-9BC18F08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49FB-CD85-419A-A1E5-44A31286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E317-412A-4AA6-9B18-B14029AA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D2BC-7D73-4232-B359-CB2FA7816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rtcyclopedia.com/history/harlem-renaissance.html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 Lawre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n-America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arlem Renaissanc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Painter, 1917-2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 Law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rence, Jacob, 1917–2000, American painter, b. Atlantic City, N.J. In Lawrence's work social themes, often detailing the African-American experience, are expressed in colorfully angular, simplified, expressive, and richly decorative figurative effects. He executed many cycles of paintings, often narrati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Jacob Lawrence - Parade - Art Prints and Posters"/>
          <p:cNvPicPr/>
          <p:nvPr/>
        </p:nvPicPr>
        <p:blipFill>
          <a:blip r:embed="rId1"/>
          <a:stretch/>
        </p:blipFill>
        <p:spPr>
          <a:xfrm>
            <a:off x="914400" y="1676520"/>
            <a:ext cx="57913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You Get TO Make Your Own Parad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s of things do we see at para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imes of year do we have para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what occa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list on the back of your paper of things that you have seen in pa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list of what kinds of parades you have 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LIGHT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5:31:51Z</dcterms:created>
  <dc:creator>Littleton Prep</dc:creator>
  <dc:description/>
  <dc:language>en-US</dc:language>
  <cp:lastModifiedBy>Littleton Prep</cp:lastModifiedBy>
  <dcterms:modified xsi:type="dcterms:W3CDTF">2008-03-11T19:31:05Z</dcterms:modified>
  <cp:revision>1</cp:revision>
  <dc:subject/>
  <dc:title>Jacob Lawrence </dc:title>
</cp:coreProperties>
</file>