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CF003-530C-4A2E-AE28-29939BF08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D405C-779B-400B-8096-93EB13D71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56BB8-D3C1-4CC9-B676-3F349547C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519CE-F414-4491-989D-509B3A9BB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79E8C-78F8-4900-A89A-49F7DFA6E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F42CA-7DF8-4D10-A968-8158B5243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A350D-C4D6-4EE0-B201-9A4BECFF1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3B3EE-5851-43DF-A285-469B69613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CA539-E500-4B22-8895-843CC811D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AC24E-2B6D-499C-86BC-707455DE2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7C602-5408-440B-B97B-9CBED1E21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87F15-1227-4241-9054-BB641715A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8AE8E-E9D3-422A-8004-280F857CAE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artcyclopedia.com/history/harlem-renaissance.html" TargetMode="External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acob Lawrenc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rican-American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arlem Renaissance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Painter, 1917-2000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acob Law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wrence, Jacob, 1917–2000, American painter, b. Atlantic City, N.J. In Lawrence's work social themes, often detailing the African-American experience, are expressed in colorfully angular, simplified, expressive, and richly decorative figurative effects. He executed many cycles of paintings, often narrative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ra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Jacob Lawrence - Parade - Art Prints and Posters"/>
          <p:cNvPicPr/>
          <p:nvPr/>
        </p:nvPicPr>
        <p:blipFill>
          <a:blip r:embed="rId1"/>
          <a:stretch/>
        </p:blipFill>
        <p:spPr>
          <a:xfrm>
            <a:off x="914400" y="1676520"/>
            <a:ext cx="579132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w You Get TO Make Your Own Parade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kinds of things do we see at parad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times of year do we have parad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what occas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 a list on the back of your paper of things that you have seen in para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 a list of what kinds of parades you have s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aw LIGHTL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1T15:31:51Z</dcterms:created>
  <dc:creator>Littleton Prep</dc:creator>
  <dc:description/>
  <dc:language>en-US</dc:language>
  <cp:lastModifiedBy>Littleton Prep</cp:lastModifiedBy>
  <dcterms:modified xsi:type="dcterms:W3CDTF">2008-03-11T15:32:10Z</dcterms:modified>
  <cp:revision>1</cp:revision>
  <dc:subject/>
  <dc:title>Jacob Lawrence </dc:title>
</cp:coreProperties>
</file>