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D2BB-9B74-4264-8E32-0190598A6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6695-442C-4EB0-B3BC-5DF116B5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3B05-5A99-48DA-BF6D-D59BE5AC3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CF52-5BE9-4BA3-BB53-F46F73711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C4F2-FEE5-4442-B24C-1E349442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D319-0180-47AB-83F9-3F5096CE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709F-4C46-4A44-8E07-E1DBA523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2AF3-EB99-4A53-992E-5CEC6177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DEF3-6ACD-4F24-BEF5-A6FFAFED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E6E7-FFBE-47AF-BB12-71302586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0127-3F72-4779-86E3-28EF890C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CE0D-9AF2-48A9-AFC1-DB4E9488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862A-8489-454E-A019-D4F11C73A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rtcyclopedia.com/history/harlem-renaissance.html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 Lawren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rican-America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arlem Renaissanc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Painter, 1917-2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 Law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wrence, Jacob, 1917–2000, American painter, b. Atlantic City, N.J. In Lawrence's work social themes, often detailing the African-American experience, are expressed in colorfully angular, simplified, expressive, and richly decorative figurative effects. He executed many cycles of paintings, often narrativ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Jacob Lawrence - Parade - Art Prints and Posters"/>
          <p:cNvPicPr/>
          <p:nvPr/>
        </p:nvPicPr>
        <p:blipFill>
          <a:blip r:embed="rId1"/>
          <a:stretch/>
        </p:blipFill>
        <p:spPr>
          <a:xfrm>
            <a:off x="914400" y="1676520"/>
            <a:ext cx="579132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w You Get TO Make Your Own Parad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s of things do we see at parad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imes of year do we have parad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what occas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list on the back of your paper of things that you have seen in par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list of what kinds of parades you have s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LIGHT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5:31:51Z</dcterms:created>
  <dc:creator>Littleton Prep</dc:creator>
  <dc:description/>
  <dc:language>en-US</dc:language>
  <cp:lastModifiedBy>Littleton Prep</cp:lastModifiedBy>
  <dcterms:modified xsi:type="dcterms:W3CDTF">2008-03-11T15:32:10Z</dcterms:modified>
  <cp:revision>1</cp:revision>
  <dc:subject/>
  <dc:title>Jacob Lawrence </dc:title>
</cp:coreProperties>
</file>