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4BBA-792A-4D41-BD95-1708607D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3B83-AA01-4093-8331-7CDD04CE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3E00-FE77-40FC-A4C2-0C043449F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027B-4CA2-46EE-B6F3-035A345D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0B6E-7316-407E-A65D-F882AABD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3B00-61CD-4619-9BD7-FC432452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2224-1108-4078-9A0F-70592AA9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DFE1-BFD5-4A4C-BDDD-95066318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1F3E-39D9-48CB-8300-18BF6224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AE4E-CB94-4DCA-A113-F14C3D28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CC86-23F4-4F6C-A26E-F09B6AE7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AB83-B892-4066-8B6D-FEB207A2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97E6-91F8-4288-A407-3AB014069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onelyplanet.com/worldguide/destinations/asia/japan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kimo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629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1907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major cities in Ja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kyo: The capit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inaw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yot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a map of Japan look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Map of Jap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the flag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Hinomaru, Japan's national flag (364x254)"/>
          <p:cNvPicPr/>
          <p:nvPr/>
        </p:nvPicPr>
        <p:blipFill>
          <a:blip r:embed="rId1"/>
          <a:stretch/>
        </p:blipFill>
        <p:spPr>
          <a:xfrm>
            <a:off x="533520" y="1676520"/>
            <a:ext cx="6172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ese Fla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mens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lag has a width/length ratio of 7:10. The sun, a circle centered on the flag, has a diameter of 3/5 the width. (The sun actually is positioned 1/100th the length closer to the pole edge of the flag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6:14:20Z</dcterms:created>
  <dc:creator>Littleton Prep</dc:creator>
  <dc:description/>
  <dc:language>en-US</dc:language>
  <cp:lastModifiedBy>Littleton Prep</cp:lastModifiedBy>
  <dcterms:modified xsi:type="dcterms:W3CDTF">2008-03-11T16:19:25Z</dcterms:modified>
  <cp:revision>2</cp:revision>
  <dc:subject/>
  <dc:title>Japan</dc:title>
</cp:coreProperties>
</file>