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929-595B-487C-9868-C34E1E54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6F6-AB9B-47E2-A272-4643C16A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D644-95A9-40B3-93D9-E9C60E47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5B2-0E50-4EAC-A477-DBF3E3BB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602-3F4B-4A18-B452-6C2E02AF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593-0466-437F-B819-AA3B2EA9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636-33AA-4C18-BB47-89F6EACD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5C1-8916-4438-A8E2-B046212B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1AC-11BE-49B6-A383-2ABD858C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E83-EBC6-447E-B3CF-404F8C75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363-21D4-4247-B890-D82E46AB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50D-B676-479C-A6E2-4F3352E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8A54-EDE4-41F7-B31F-DEE32998E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onelyplanet.com/worldguide/destinations/asia/japan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kimo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190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major cities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yo: The capi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inaw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yo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 map of Japan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ap of Jap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flag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Hinomaru, Japan's national flag (364x254)"/>
          <p:cNvPicPr/>
          <p:nvPr/>
        </p:nvPicPr>
        <p:blipFill>
          <a:blip r:embed="rId1"/>
          <a:stretch/>
        </p:blipFill>
        <p:spPr>
          <a:xfrm>
            <a:off x="533520" y="1676520"/>
            <a:ext cx="6172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ese F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men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ag has a width/length ratio of 7:10. The sun, a circle centered on the flag, has a diameter of 3/5 the width. (The sun actually is positioned 1/100th the length closer to the pole edge of the flag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14:20Z</dcterms:created>
  <dc:creator>Littleton Prep</dc:creator>
  <dc:description/>
  <dc:language>en-US</dc:language>
  <cp:lastModifiedBy>Littleton Prep</cp:lastModifiedBy>
  <dcterms:modified xsi:type="dcterms:W3CDTF">2008-03-11T16:19:25Z</dcterms:modified>
  <cp:revision>2</cp:revision>
  <dc:subject/>
  <dc:title>Japan</dc:title>
</cp:coreProperties>
</file>