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624-6B0A-47B3-93CE-78710BA2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BB2-47E8-4F44-90CC-2544DF9F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1ED-2791-4826-8D22-FA2FB9BC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74F-E3DE-419A-ADA6-DF031326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B2E-4F12-4336-818B-3909DD8D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8A9-A45B-4CB7-B0E0-332406B6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F0E-166F-44A8-9A3B-43F4898B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AEC-2704-49B1-B199-EA50D221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FEA-48DE-486B-9F6A-1C00C331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E8C-EEC1-4032-ADF7-A7BBEE5F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89E-024F-4EDD-9B90-4E736DF8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6EA-89C4-4174-AFA2-059104A7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C1E-404E-4C1E-B9CE-7DF449B9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nd Dog in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eople and Dog in the Sun Art Print by Joan Miro"/>
          <p:cNvPicPr/>
          <p:nvPr/>
        </p:nvPicPr>
        <p:blipFill>
          <a:blip r:embed="rId1"/>
          <a:stretch/>
        </p:blipFill>
        <p:spPr>
          <a:xfrm>
            <a:off x="2362320" y="304920"/>
            <a:ext cx="4724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: 1893-19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ame is a Spanish word for "he looked", with the accent on the "o" in "Miro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Miro was a Spanish artist an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urrealist mov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inting fun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y look str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connected or disconnec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e or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outlines with your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3814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 Upside-dow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inting fun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y look str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connected or disconnec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e or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outlines with your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3814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you will have the chance to draw and color this Joan Miro` picture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are finished, you can decide HOW YOU want to hang i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11:31Z</dcterms:created>
  <dc:creator>Littleton Prep</dc:creator>
  <dc:description/>
  <dc:language>en-US</dc:language>
  <cp:lastModifiedBy>Littleton Prep</cp:lastModifiedBy>
  <dcterms:modified xsi:type="dcterms:W3CDTF">2008-03-07T22:13:22Z</dcterms:modified>
  <cp:revision>2</cp:revision>
  <dc:subject/>
  <dc:title>Joan Miro</dc:title>
</cp:coreProperties>
</file>