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422-8CBB-4AE5-98D9-46FF533F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355-1961-4289-B1B3-94AFBA93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8A0B-912C-48D1-98D3-D9BAD610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059-22BB-44D2-BE36-3E547FB4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41C-B856-4597-860C-5F266A0F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DCB-65A0-4882-9F49-C001B692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2CB-EEB9-44A1-AA64-C35AEC8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C11-5A86-4B3D-B961-388BCBD6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070-673E-46BB-9B56-D50FED32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3A6-8A3A-4DA8-9194-7B57D170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9C4-C504-49DE-8499-9FD2415D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F6D-7BF6-41A5-A9A1-2EF720C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9AE9-C0B5-4B98-B804-5D73522A9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and Dog in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eople and Dog in the Sun Art Print by Joan Miro"/>
          <p:cNvPicPr/>
          <p:nvPr/>
        </p:nvPicPr>
        <p:blipFill>
          <a:blip r:embed="rId1"/>
          <a:stretch/>
        </p:blipFill>
        <p:spPr>
          <a:xfrm>
            <a:off x="2362320" y="304920"/>
            <a:ext cx="4724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: 1893-19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name is a Spanish word for "he looked", with the accent on the "o" in "Miro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Miro was a Spanish artist an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urrealist mov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inting fun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y look str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y connected or disconnec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e or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outlines with your 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3814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` Upside-dow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inting fun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y look str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y connected or disconnec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e or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outlines with your 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3814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you will have the chance to draw and color this Joan Miro` picture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 are finished, you can decide HOW YOU want to hang i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11:31Z</dcterms:created>
  <dc:creator>Littleton Prep</dc:creator>
  <dc:description/>
  <dc:language>en-US</dc:language>
  <cp:lastModifiedBy>Littleton Prep</cp:lastModifiedBy>
  <dcterms:modified xsi:type="dcterms:W3CDTF">2008-03-07T22:13:22Z</dcterms:modified>
  <cp:revision>2</cp:revision>
  <dc:subject/>
  <dc:title>Joan Miro</dc:title>
</cp:coreProperties>
</file>