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241A-F8BE-49BE-88C5-B87A95A90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30B7-D9CF-4EAF-A488-D3C564E6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FDD9-525F-4C30-80DE-125F846F8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6B82-E068-457B-A2E2-F1B039CF9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8CDAD-D20B-4D5C-898C-4FDE3A8AD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32895-7FC2-4DAD-A5B9-FDED6C03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D9D20-8A28-4AC6-8108-1BDE4E72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7D168-F837-4520-BDCA-65535712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7BB60-BE3D-4870-81D3-544A8371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FF093-6856-48DC-85A5-28221852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DC1D3A-8392-4833-8726-882C5009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B698-DB7E-4263-B99F-61DC51B7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4A9D7-053C-4D7E-A188-38B37B53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3C75A-3DEF-4471-A207-01E1B340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A0419-5C2D-4583-9B18-4E443A20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2C9C9-7274-456B-9826-2F15E5FEA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14E6F-9035-4D56-9666-30E0C9747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6547-175B-44D1-BFE6-E3E95648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8D32-2FFF-4119-BF74-523B3921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CD01-F932-474D-9D78-25BAC15A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7CDC-0868-409F-9600-2C7F55DC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D4CE-3BA3-49ED-8C86-675DE6DF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A66D-A075-4939-B795-7A8AA2D4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ABA9-49F5-4923-860E-4C4B7A50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1848-C4A0-431F-9A0E-076A8C3BC0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6503-D2C6-4360-B732-587E31961E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LIN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ight, Wavy, thick, thin, zigza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We are going to make a snow landscape!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use yarn for the 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different ways can land/ground loo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 we use the yarn to make a straight lin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 we use the yarn to make hill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 we use the yarn to make mountai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p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ose either a light blue or dark blue p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ide what kind of background you want and use the yarn to make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ue the yarn onto your p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ll one of your teachers what kind of line you used to make the background that you sel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else can you make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gluing the yarn on your paper, you need to decide what else you want to be inclu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s-houses, trees, clouds, people, snowmen, birds, anim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lor I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draw your sen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color in your scenery with cray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tton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glue the cotton onto your p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the cotton look like sn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litter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s! Glitt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some glue on your paper (small amount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should put the glue where you would like the glitter to 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use the glitter to make the “snow” sparkl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inished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take home your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19:35:13Z</dcterms:created>
  <dc:creator>Matthew Cleveland</dc:creator>
  <dc:description/>
  <dc:language>en-US</dc:language>
  <cp:lastModifiedBy>Matthew Cleveland</cp:lastModifiedBy>
  <dcterms:modified xsi:type="dcterms:W3CDTF">2007-11-25T19:51:07Z</dcterms:modified>
  <cp:revision>3</cp:revision>
  <dc:subject/>
  <dc:title>LINE</dc:title>
</cp:coreProperties>
</file>