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686-A39E-46A3-A416-0853F65A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9D4-420D-4ED7-AF2C-0F8ABB5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C5C-8D66-494E-BE7A-6B0CD3A4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A9D-399D-49BD-9B4E-EE8AD946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C24BB-290A-44CC-8167-BAE68F54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3B460-9A7F-48B2-8551-370366C7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54B39-4E5E-47AE-8D3C-B5FDBE45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F463B-B336-4B3A-8F49-4A75DCF5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B77E9-4A2F-41FA-8945-A28F5CC9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2ED52-66A0-4D72-88AA-FB8FBA12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F7480-C72B-4DE7-8718-D26C9B7E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A72-30A9-4325-9359-06930344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7DB42-758B-496A-82FE-45B3713C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8CB0D-EB6D-4668-A00D-1B1F72A3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C2A0D-7FD8-4357-879B-363B22D4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AB752-5E7B-4B41-8048-6583EE00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9655F-458F-4DE6-A1FD-E42F9186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0EA-0783-4C9B-8F04-003ECCDC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258-9C5D-4A71-AD4F-BC636F9B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7D4-B9C4-4E76-8045-12BA9905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5AA-6D33-42A4-818E-E9DAF81F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CD5-B1B0-4C77-9B4C-EFAFA3CD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1AC-2EB8-47AA-827E-2DA1ABC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993-DE67-47AA-BEB5-D41823F3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6D1B-9D98-489C-AE8E-7D6E0B88C2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4B6B-F8D8-442C-9A83-6AF9AAD307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IN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, Wavy, thick, thin, zigz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 are going to make a snow landscape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use yarn for th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ifferent ways can land/ground loo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we use the yarn to make a straight 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we use the yarn to make hil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we use the yarn to make mounta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p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either a light blue or dark blue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what kind of background you want and use the yarn to mak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ue the yarn onto your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 one of your teachers what kind of line you used to make the background that you se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else can you mak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gluing the yarn on your paper, you need to decide what else you want to be in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-houses, trees, clouds, people, snowmen, birds,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or 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draw your sen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color in your scenery with cray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tton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glue the cotton onto your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the cotton look like s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litter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! Glit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some glue on your paper (small amoun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ould put the glue where you would like the glitter to 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use the glitter to make the “snow” spark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nished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home your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9:35:13Z</dcterms:created>
  <dc:creator>Matthew Cleveland</dc:creator>
  <dc:description/>
  <dc:language>en-US</dc:language>
  <cp:lastModifiedBy>Matthew Cleveland</cp:lastModifiedBy>
  <dcterms:modified xsi:type="dcterms:W3CDTF">2007-11-25T19:51:07Z</dcterms:modified>
  <cp:revision>3</cp:revision>
  <dc:subject/>
  <dc:title>LINE</dc:title>
</cp:coreProperties>
</file>