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D74-9F2C-49BA-BFB0-C052735E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8A0-0166-40AF-AC6D-EABA591D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E7D-06A0-4B2B-BB3C-1E6022E6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1A5-5B13-44E7-9E8F-B327CB78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998-5A49-4DB9-841D-09B7FC86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17D-0E11-4B28-847D-8554C925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CAF-E41D-4592-AF5E-F34B9BAA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40A-457F-4ED8-8CCD-89772E97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4C1-BC72-44FE-B243-20DAFCDE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0F4-C579-454C-A31B-066F6D9B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A75-8AA6-4F92-B929-3A793DA5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CE6-C0EA-40A3-9EDE-97292190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2625-295A-48A3-9E4C-4DB3CBEB7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ic.edu/artaccess/AA_Impressionist/pages/IMP_glossary5.shtml#Cassatt" TargetMode="External"/><Relationship Id="rId2" Type="http://schemas.openxmlformats.org/officeDocument/2006/relationships/hyperlink" Target="http://www.artic.edu/artaccess/AA_Impressionist/pages/IMP_glossary2.shtml#impressionism" TargetMode="External"/><Relationship Id="rId3" Type="http://schemas.openxmlformats.org/officeDocument/2006/relationships/hyperlink" Target="http://www.artic.edu/artaccess/AA_Impressionist/pages/IMP_glossary5.shtml#Degas" TargetMode="External"/><Relationship Id="rId4" Type="http://schemas.openxmlformats.org/officeDocument/2006/relationships/hyperlink" Target="http://www.artic.edu/artaccess/AA_Impressionist/pages/IMP_glossary1.shtml#draftsman" TargetMode="External"/><Relationship Id="rId5" Type="http://schemas.openxmlformats.org/officeDocument/2006/relationships/hyperlink" Target="http://www.artic.edu/artaccess/AA_Impressionist/pages/IMP_glossary1.shtml#asymmetrical" TargetMode="External"/><Relationship Id="rId6" Type="http://schemas.openxmlformats.org/officeDocument/2006/relationships/hyperlink" Target="http://www.artic.edu/artaccess/AA_Impressionist/pages/IMP_glossary1.shtml#composition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Cassatt: 1844-192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h: 18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Cassatt Mary - The Bath"/>
          <p:cNvPicPr/>
          <p:nvPr/>
        </p:nvPicPr>
        <p:blipFill>
          <a:blip r:embed="rId1"/>
          <a:stretch/>
        </p:blipFill>
        <p:spPr>
          <a:xfrm>
            <a:off x="213372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Cassa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ry Cassat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e only American to exhibit with the original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mpressioni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. Like her frie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he was a highly skille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rafts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 preferred unposed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symmetr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mposi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hild's Bath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rcular shapes of the figures’ heads, the basin, and the pitcher, as well as the striped pattern of the woman’s dress animate the portrait of a woman bathing a child. Cassatt’s unusual vantage point (from above) as well as her choice of a female subject show her interest in Japane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odblock pr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had become extremely popular in France at th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y Cassa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y paintings, pastels, and prints in which Cassatt depicted children being bathed, dressed, read to, held, or nursed reflect the most advanced 19th-century ideas about raising children. After 1870, French scientists and physicians encouraged mothers (instead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t-nur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annies) to care for their children and suggested modern approaches to health and personal hygiene, including regular bathing. In the face of sever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pidemics in the mid-1880s, bathing was encouraged not only as a remedy for body odors but as a preventative measure against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we are going to pretend that we are Mary Cassat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given a large sheet of white drawing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raw this picture to the best of your abilities-it does NOT have to be perf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raw 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we will use colored pencils to color in the pict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35:33Z</dcterms:created>
  <dc:creator>Littleton Prep</dc:creator>
  <dc:description/>
  <dc:language>en-US</dc:language>
  <cp:lastModifiedBy>Littleton Prep</cp:lastModifiedBy>
  <dcterms:modified xsi:type="dcterms:W3CDTF">2008-03-31T19:17:51Z</dcterms:modified>
  <cp:revision>2</cp:revision>
  <dc:subject/>
  <dc:title>Mary Cassatt: 1844-1926 </dc:title>
</cp:coreProperties>
</file>