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809-B644-48D9-848D-23FE443A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487-361E-411E-B411-545A4CCA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EC5-0BD7-4CA2-A655-31851CCD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49C-2117-43C7-A963-EFA41CE9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2A29-E2EB-40DE-B9B2-AD0A421F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C4ED-2895-4B2C-8429-E480BDA2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AA27-0018-47EF-94A2-452FB5C9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D065-27BA-43CA-9E20-686467A0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C2DF-DF82-427B-A5C1-B329080F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515E-58F8-41F0-85D3-5EA7402C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EB40-64D9-40DD-8B83-16F44DD2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2EA-E01B-46F0-A4CA-6524E359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6EEF-11D8-4E6B-9FAF-27F23A4C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2D4A-24E7-4E76-B151-0F59AE2A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E6F7-9B5A-4E38-9848-2B84911E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08CC-86E9-4722-8AB2-3DD24998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3442-ABCE-4BDB-9761-CFECD4D6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00C-DB83-441A-9E17-E9AB725B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04A-7DD3-4B86-AB63-BE749022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95E-1E6D-46BA-87BD-1C9A2B5B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F54-B3A0-4420-9FAD-226D3DDB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1A2-C351-40B6-9B8B-9611AD03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72D-6DD9-45D3-A21B-4958BDEC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1B0-9B4C-4D3D-8C5C-B44695AE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DB07-A711-4268-ADAE-D5E72B9349A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207D-1CD3-4AA2-939F-292108EB50B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lpasorugs.com/indianart/masks/mask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lpasorugs.com/indianart/masks/mask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sks have appeared in many different cultur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a mas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ts look at some masks made by India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752480"/>
            <a:ext cx="3429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447920"/>
            <a:ext cx="3504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343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ow It Is Time For You To Make Your Own Mask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ease draw out/sketch out how you would like your mask to look before you st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Fun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1:22:37Z</dcterms:created>
  <dc:creator>Matthew Cleveland</dc:creator>
  <dc:description/>
  <dc:language>en-US</dc:language>
  <cp:lastModifiedBy>Matthew Cleveland</cp:lastModifiedBy>
  <dcterms:modified xsi:type="dcterms:W3CDTF">2007-11-25T21:38:44Z</dcterms:modified>
  <cp:revision>2</cp:revision>
  <dc:subject/>
  <dc:title>Masks have appeared in many diferent cultures</dc:title>
</cp:coreProperties>
</file>