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4FE0-C968-43C8-990A-B07D4D6D8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0345-E2FC-483B-8562-4F939AA0C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6AC4-7ADA-45E2-BE22-C6F48A0F1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0E96-6DE0-4E09-8164-2010B9B58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62B3B-F964-4F9A-80E3-14A48A0BC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3547F-1E48-46B3-854F-4437B7081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D723A-7EAE-48BC-96D9-BC32F0726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A3521-8B61-44CD-979F-5F2B50661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3711C-580C-4512-9EBD-C59E709B0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D202F-DDF7-4307-97C4-242ACEC38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D14C0-1543-443A-A3EF-9768146FF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3EA7-36E6-49E2-A2D8-0FF617DED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B2244-47A5-4FDA-916C-2F4D5B7F4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5B48A-951A-4C8E-BF13-94E0BED59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6A673-1066-4971-9639-C3DA36CE2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A714A-80D2-49BA-8E94-3D526AEB0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3F35E-C06B-4EA5-B544-071B52FA0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1EDA-C6AA-4839-8B43-3EE7511BD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CCDA-B9AF-404C-A5A8-88FAFA125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FC62-2AE9-494B-8150-A74E8F7A6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225C-02C6-4E7A-A0BE-AF3876576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BD1D-B1AF-485E-AF97-F9268BACE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6706-3FDF-4B12-9BF4-A3A58B0BF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C1BF-6BB9-4429-9552-A13DF6BA2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9AE0D-8FFA-4541-8723-B02C0F5AABE8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85F67-42FC-4A05-B676-3FBC4D7753F7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lpasorugs.com/indianart/masks/mask1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lpasorugs.com/indianart/masks/mask2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Masks have appeared in many different culture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at is a mask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Lets look at some masks made by Indian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5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43200" y="1752480"/>
            <a:ext cx="342900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90920" y="1447920"/>
            <a:ext cx="350496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2362320" y="380880"/>
            <a:ext cx="434340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2286000" y="0"/>
            <a:ext cx="4267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2743200" y="0"/>
            <a:ext cx="3657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Now It Is Time For You To Make Your Own Mask!!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lease draw out/sketch out how you would like your mask to look before you star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ave Fun!!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5T21:22:37Z</dcterms:created>
  <dc:creator>Matthew Cleveland</dc:creator>
  <dc:description/>
  <dc:language>en-US</dc:language>
  <cp:lastModifiedBy>Matthew Cleveland</cp:lastModifiedBy>
  <dcterms:modified xsi:type="dcterms:W3CDTF">2007-11-25T21:38:44Z</dcterms:modified>
  <cp:revision>2</cp:revision>
  <dc:subject/>
  <dc:title>Masks have appeared in many diferent cultures</dc:title>
</cp:coreProperties>
</file>