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54A1-06C4-4449-BF1F-3C79C4BAC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C59D-369B-44CF-85E0-6786712E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EE0F-C1E2-45A4-B796-07AB49394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13A2-F2FA-4A11-87C4-4388F0FC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1C3C-2D81-47BB-B042-2916CB86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231B-DBA5-423B-8516-D680A229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83AE-0487-43AD-8D1A-2B00BFC8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017D-164B-4277-9C87-C201FC21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FEE6-5848-4350-B580-924EAF34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23DC-1DE0-41AB-84D8-3E1F409E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9C0A-0929-499C-AC27-F204944C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C44C-36F9-4697-BA0F-C9B977B8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199D-AA80-4B4B-A607-69EB328AF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Three_Musicians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d/d1/Picasso_three_musicians_moma_2006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blo Picasso Spanish, 1881-197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hree Musicia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21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Image:Picasso three musicians moma 200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533520"/>
            <a:ext cx="6343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20:10:05Z</dcterms:created>
  <dc:creator>Littleton Prep</dc:creator>
  <dc:description/>
  <dc:language>en-US</dc:language>
  <cp:lastModifiedBy>Littleton Prep</cp:lastModifiedBy>
  <dcterms:modified xsi:type="dcterms:W3CDTF">2008-12-02T20:12:04Z</dcterms:modified>
  <cp:revision>1</cp:revision>
  <dc:subject/>
  <dc:title>Pablo Picasso Spanish, 1881-1973</dc:title>
</cp:coreProperties>
</file>