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899-DE6A-41C7-AA01-DC742F53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D6B-4B2D-411D-A221-FDB3667F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751-5F96-47DF-8BAE-46EEA7D4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0EE-B952-4C84-A65A-AD90B0D7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A867-F5E8-4A75-A6DD-3B115992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BC2-3712-4322-BC9F-A57B8559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F9E-6B8E-437E-969B-36C7618E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85E-498C-47F6-A1B2-E6708137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69A-F867-46AA-BFDB-305DDC9D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74E-6772-4571-800A-F3B1E9A7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50A-8A27-44CC-BB60-0F076FF2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6F0-D531-458F-9DEC-0B25FFEB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AD14-C344-40E7-B543-5D5A1298A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hree_Musicians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1/Picasso_three_musicians_moma_200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blo Picasso Spanish, 1881-19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ree Musici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21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Image:Picasso three musicians moma 2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533520"/>
            <a:ext cx="634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0:10:05Z</dcterms:created>
  <dc:creator>Littleton Prep</dc:creator>
  <dc:description/>
  <dc:language>en-US</dc:language>
  <cp:lastModifiedBy>Littleton Prep</cp:lastModifiedBy>
  <dcterms:modified xsi:type="dcterms:W3CDTF">2008-12-02T20:12:04Z</dcterms:modified>
  <cp:revision>1</cp:revision>
  <dc:subject/>
  <dc:title>Pablo Picasso Spanish, 1881-1973</dc:title>
</cp:coreProperties>
</file>