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2BA-E017-4927-8D61-DAD615F6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DB1-7375-47A7-9482-02C5A78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AF1-360C-4832-AB30-1EFC2F1F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54F-5F99-4040-B6B3-60184DAF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256-33CD-45CF-ADA5-68011D33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8BE-BBFC-4348-9777-A2FD27B0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684-A70F-4EAC-B7BB-4B8F30A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7D5-E1DE-4F7A-9281-1DB5A93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AC3-5C1F-42D6-AC5B-8A8E784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281-33C0-4C25-AEA6-4DDE91F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BDA-84EA-4BBC-B53C-B0168040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FEB-B37E-446F-9B9E-DCE50BD1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A7C6-E1FA-4BD5-B94C-F14FAE13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blo Picasso. (Spanish, 1881-197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wo Girls Reading art print by Pablo Picasso"/>
          <p:cNvPicPr/>
          <p:nvPr/>
        </p:nvPicPr>
        <p:blipFill>
          <a:blip r:embed="rId1"/>
          <a:stretch/>
        </p:blipFill>
        <p:spPr>
          <a:xfrm>
            <a:off x="457200" y="1295280"/>
            <a:ext cx="541008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irls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w you have the chance to be Pablo Picasso to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your pencil to lightly draw w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Use colors to reproduce the colors t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oes this picture remind you of any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n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8:56:11Z</dcterms:created>
  <dc:creator>Littleton Prep</dc:creator>
  <dc:description/>
  <dc:language>en-US</dc:language>
  <cp:lastModifiedBy>Littleton Prep</cp:lastModifiedBy>
  <dcterms:modified xsi:type="dcterms:W3CDTF">2008-04-23T18:56:22Z</dcterms:modified>
  <cp:revision>1</cp:revision>
  <dc:subject/>
  <dc:title>Pablo Picasso</dc:title>
</cp:coreProperties>
</file>