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CB2C-3BF4-476E-980B-65D7E5F1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BE3-82DC-4610-A6FB-30C6CCEA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6C0-3A8D-4432-A525-67E6B67B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7243-8008-49BF-A0AF-DD527C10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DC9-B83A-43CE-8511-FCCFBC98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2B7-3E5C-48ED-AC3C-6C83A846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B20-B17B-4D61-98A5-01B999C4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EAF-5511-4473-89D8-9758141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218-4FA0-4BC3-B8A3-CB1AC08C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EDA-D80A-45A1-8888-437CB4E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A92-E297-4C60-8BEA-E695BD36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5F2-2036-418E-9593-1B4C7CD4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CCD2-855B-42C3-A05D-948573716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blo Picasso. (Spanish, 1881-197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wo Girls Reading art print by Pablo Picasso"/>
          <p:cNvPicPr/>
          <p:nvPr/>
        </p:nvPicPr>
        <p:blipFill>
          <a:blip r:embed="rId1"/>
          <a:stretch/>
        </p:blipFill>
        <p:spPr>
          <a:xfrm>
            <a:off x="457200" y="1295280"/>
            <a:ext cx="541008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Girls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w you have the chance to be Pablo Picasso too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Use your pencil to lightly draw w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Use colors to reproduce the colors t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oes this picture remind you of any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n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8:56:11Z</dcterms:created>
  <dc:creator>Littleton Prep</dc:creator>
  <dc:description/>
  <dc:language>en-US</dc:language>
  <cp:lastModifiedBy>Littleton Prep</cp:lastModifiedBy>
  <dcterms:modified xsi:type="dcterms:W3CDTF">2008-04-23T18:56:22Z</dcterms:modified>
  <cp:revision>1</cp:revision>
  <dc:subject/>
  <dc:title>Pablo Picasso</dc:title>
</cp:coreProperties>
</file>