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025B-7048-43ED-814F-548BCE3A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C20-5415-4B64-B1F0-6A4172F1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7CA-1809-40CB-BE13-7B9B239B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326-20C3-4363-8A54-07E4D1DB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1E7-CA2A-4F52-A361-1F814A19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88D-010D-4BB8-BAB5-40F5EABC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662-2714-4BB9-9C49-BC8E2886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2EFE-806D-4CCB-8FAA-391A979B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830-A530-40BE-A2D1-DECF7CB3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3C2-5A50-4D20-A241-3016433E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E5B-2D17-4E66-8C32-2684E651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33F-8AF4-45B6-83A6-44D39DE1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23BC-5F7F-448F-A105-672C6BB15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l Kl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and 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aul Klee. Cat and Bird. 1928"/>
          <p:cNvPicPr/>
          <p:nvPr/>
        </p:nvPicPr>
        <p:blipFill>
          <a:blip r:embed="rId1"/>
          <a:stretch/>
        </p:blipFill>
        <p:spPr>
          <a:xfrm>
            <a:off x="609480" y="152280"/>
            <a:ext cx="7925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l Kle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, born Switzerland. 1879-19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and Bird painted in 19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find the bir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a picture of the whole cat or just the 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about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cat look happ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draw the cat! Make sure that you use LIGHT li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we are going to color the c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2:48:36Z</dcterms:created>
  <dc:creator>Littleton Prep</dc:creator>
  <dc:description/>
  <dc:language>en-US</dc:language>
  <cp:lastModifiedBy>Littleton Prep</cp:lastModifiedBy>
  <dcterms:modified xsi:type="dcterms:W3CDTF">2008-03-07T22:48:58Z</dcterms:modified>
  <cp:revision>1</cp:revision>
  <dc:subject/>
  <dc:title>Paul Klee</dc:title>
</cp:coreProperties>
</file>