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3D3-FED2-4BAB-93DD-1A5A87DC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200-283F-4D48-BBF7-57425863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351-89A2-42DC-BCA1-4C8F8794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71D-841E-49D1-A039-ECFCD8EB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F2F-B968-4963-9F5F-4A93D59D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995-A97E-4C9D-A06E-22185C12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1D3-DE46-43E9-AF58-5979C3AC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2F3-B970-4DDC-9105-91A7F095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755-290C-48BF-8CED-0FF61E05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3ED-4AF3-4C37-9C55-A704E7E4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63C-77D0-4F74-B0E6-8C552702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51D7-4F47-47D7-BC70-CE945551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6FD8-D53C-4D79-81BB-91DB83C93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 Kl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and 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aul Klee. Cat and Bird. 1928"/>
          <p:cNvPicPr/>
          <p:nvPr/>
        </p:nvPicPr>
        <p:blipFill>
          <a:blip r:embed="rId1"/>
          <a:stretch/>
        </p:blipFill>
        <p:spPr>
          <a:xfrm>
            <a:off x="609480" y="152280"/>
            <a:ext cx="7925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ul Kle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, born Switzerland. 1879-19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and Bird painted in 19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find the bir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picture of the whole cat or just the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about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cat look ha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draw the cat! Make sure that you use LIGHT li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we are going to color the c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48:36Z</dcterms:created>
  <dc:creator>Littleton Prep</dc:creator>
  <dc:description/>
  <dc:language>en-US</dc:language>
  <cp:lastModifiedBy>Littleton Prep</cp:lastModifiedBy>
  <dcterms:modified xsi:type="dcterms:W3CDTF">2008-03-07T22:48:58Z</dcterms:modified>
  <cp:revision>1</cp:revision>
  <dc:subject/>
  <dc:title>Paul Klee</dc:title>
</cp:coreProperties>
</file>