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90A-52D6-46A4-B5D1-09043042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2B4-CA04-4B17-B229-00346B2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6DB-91B1-402D-92F6-9BB9BBAF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299-5E41-4346-95EE-304CD005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396-B1FB-44E5-8B2D-71F109AD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4F8-2CAD-451C-A5F3-EDEC29F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55A-C928-4C2E-804A-BA5A41C9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74E-EDFF-40BF-8A2A-E9E1DC62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78B-EB5B-49FF-9543-2E15C80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674-431A-4798-B7A6-49C51F85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001-43A3-4227-ACAC-7E36349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A6D-83A2-4B61-BEF8-AE8C710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725B-C1B4-4E2D-82C5-AA55988B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ts from Core Knowled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Cezanne, Georges Seurat, Vincent Van Gogh, Paul Gaugu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i Toulouse-Lautr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33:49Z</dcterms:created>
  <dc:creator>Littleton Prep</dc:creator>
  <dc:description/>
  <dc:language>en-US</dc:language>
  <cp:lastModifiedBy>Littleton Prep</cp:lastModifiedBy>
  <dcterms:modified xsi:type="dcterms:W3CDTF">2008-11-20T16:34:01Z</dcterms:modified>
  <cp:revision>1</cp:revision>
  <dc:subject/>
  <dc:title>Post Impressionism</dc:title>
</cp:coreProperties>
</file>