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9D3-0170-4DBC-8DF8-F959803A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936-9C7F-43BE-9C6B-62E1FA8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12B-F858-4209-A217-20C8B652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DAD-FEB6-48E0-BAD7-D6E591BA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054-F06C-432D-86A3-68722130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0D9-80C1-4330-86D6-7DD348ED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9DF-7996-4228-B50C-09D8A202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050-1242-4E12-94C3-14556851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8CE-3551-4E94-981C-CEC0AEDF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374-FD6F-48D6-B7EA-0C307C4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29E-9795-4CC1-84A2-C2A3848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AEE-54A2-42FD-8071-978BC166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11C7-C703-4507-B6DB-39295DBA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ts from Core Knowled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Cezanne, Georges Seurat, Vincent Van Gogh, Paul Gaugu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i Toulouse-Lautr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33:49Z</dcterms:created>
  <dc:creator>Littleton Prep</dc:creator>
  <dc:description/>
  <dc:language>en-US</dc:language>
  <cp:lastModifiedBy>Littleton Prep</cp:lastModifiedBy>
  <dcterms:modified xsi:type="dcterms:W3CDTF">2008-11-20T16:34:01Z</dcterms:modified>
  <cp:revision>1</cp:revision>
  <dc:subject/>
  <dc:title>Post Impressionism</dc:title>
</cp:coreProperties>
</file>