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D15-3C16-4319-8782-75D379D8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22E-B30E-4B58-8225-2F99E146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981-0523-4E9A-A976-C687636F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BDF-539E-4D93-9D74-CF93E679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1E3-65CD-41E2-BE1F-745273C9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20E-F0BB-4A28-B0DF-1FE52317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CF5-53A9-43BD-87CA-E08A843D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AEB-1C68-42FC-82DA-A76A67B9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A0F-3668-49D1-8AE6-8A7E0920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856-2CB3-40C1-9165-4EEE0D3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4DA-6EAF-41CC-821F-F7C13FF5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427-38B0-47C8-B2EB-EAF6307C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026D-31A7-4FF3-A7B4-7046B7CAA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467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9760" y="900000"/>
            <a:ext cx="812448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0:59:10Z</dcterms:created>
  <dc:creator>Littleton Prep</dc:creator>
  <dc:description/>
  <dc:language>en-US</dc:language>
  <cp:lastModifiedBy>Littleton Prep</cp:lastModifiedBy>
  <dcterms:modified xsi:type="dcterms:W3CDTF">2007-12-04T20:59:24Z</dcterms:modified>
  <cp:revision>1</cp:revision>
  <dc:subject/>
  <dc:title>Slide 1</dc:title>
</cp:coreProperties>
</file>