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3B15-068A-4AA6-BC98-1DC794BA2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4F2D-D0C5-45B4-B771-76A270F0E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2D4F-68EE-4C1F-9529-C6438CAD4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ED0E-91D7-4FF7-B884-E1330FA3B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21C0-3D27-4EC9-AC6E-E3CE5F588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4B17-D2FA-4E6B-8A10-946787E7B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16DE-78F1-4D6E-B9C1-BD0CAA2D8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10BB-BE76-4B28-B19A-32A52DD89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8907-30BB-4721-9DD7-1125FADF1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2104-1429-45D9-804A-1D0AB603B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8D9F-BBAF-4851-991D-F2E2C34F1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3F2A-52AD-4460-9444-42CF8B1F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B0B88-D239-4AF9-8D2E-280C291E50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746748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09760" y="900000"/>
            <a:ext cx="8124480" cy="50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20:59:10Z</dcterms:created>
  <dc:creator>Littleton Prep</dc:creator>
  <dc:description/>
  <dc:language>en-US</dc:language>
  <cp:lastModifiedBy>Littleton Prep</cp:lastModifiedBy>
  <dcterms:modified xsi:type="dcterms:W3CDTF">2007-12-04T20:59:24Z</dcterms:modified>
  <cp:revision>1</cp:revision>
  <dc:subject/>
  <dc:title>Slide 1</dc:title>
</cp:coreProperties>
</file>