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B84-A999-41F4-B983-C24A78FC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85D-1B87-4562-999D-CF7CEFAD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EDD9-3FCC-4AF6-84F0-30530D5E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E383-9DD1-4C34-963D-F55F2487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99A-A2A0-43EB-A38B-EBD8FB8D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229-41F8-4E80-ADA3-3CED0809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B23-E179-454A-9BFD-295E18A7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B99-013F-450D-9B6D-D9EDA3B4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AC8-D2C3-4C9F-85C6-632A7BFC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4C23-1654-49BB-BD65-E97B0808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294-1D6F-4E75-A4B5-D16A30F6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B89-961C-427B-82B4-326A9E02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9B0F-0430-43CF-A6EC-8344813D9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rench_art" TargetMode="External"/><Relationship Id="rId2" Type="http://schemas.openxmlformats.org/officeDocument/2006/relationships/hyperlink" Target="http://en.wikipedia.org/wiki/Interior_design" TargetMode="External"/><Relationship Id="rId3" Type="http://schemas.openxmlformats.org/officeDocument/2006/relationships/hyperlink" Target="http://en.wikipedia.org/wiki/Tapestry" TargetMode="External"/><Relationship Id="rId4" Type="http://schemas.openxmlformats.org/officeDocument/2006/relationships/hyperlink" Target="http://en.wikipedia.org/wiki/Neoclassicism" TargetMode="External"/><Relationship Id="rId5" Type="http://schemas.openxmlformats.org/officeDocument/2006/relationships/hyperlink" Target="http://en.wikipedia.org/wiki/Catherine_Palace" TargetMode="External"/><Relationship Id="rId6" Type="http://schemas.openxmlformats.org/officeDocument/2006/relationships/hyperlink" Target="http://en.wikipedia.org/wiki/Tsarskoye_Selo" TargetMode="External"/><Relationship Id="rId7" Type="http://schemas.openxmlformats.org/officeDocument/2006/relationships/hyperlink" Target="http://en.wikipedia.org/wiki/Tsarskoye_Selo" TargetMode="External"/><Relationship Id="rId8" Type="http://schemas.openxmlformats.org/officeDocument/2006/relationships/hyperlink" Target="http://en.wikipedia.org/wiki/Tsarskoye_Selo" TargetMode="External"/><Relationship Id="rId9" Type="http://schemas.openxmlformats.org/officeDocument/2006/relationships/hyperlink" Target="http://en.wikipedia.org/wiki/Image:Catherine_Palace_ballroom.jpg" TargetMode="External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therine_Palace" TargetMode="External"/><Relationship Id="rId2" Type="http://schemas.openxmlformats.org/officeDocument/2006/relationships/hyperlink" Target="http://en.wikipedia.org/wiki/Tsarskoye_Selo" TargetMode="External"/><Relationship Id="rId3" Type="http://schemas.openxmlformats.org/officeDocument/2006/relationships/hyperlink" Target="http://en.wikipedia.org/wiki/Tsarskoye_Selo" TargetMode="External"/><Relationship Id="rId4" Type="http://schemas.openxmlformats.org/officeDocument/2006/relationships/hyperlink" Target="http://en.wikipedia.org/wiki/Tsarskoye_Selo" TargetMode="External"/><Relationship Id="rId5" Type="http://schemas.openxmlformats.org/officeDocument/2006/relationships/hyperlink" Target="http://en.wikipedia.org/wiki/Image:Ottobeuren-basilika.jpg" TargetMode="External"/><Relationship Id="rId6" Type="http://schemas.openxmlformats.org/officeDocument/2006/relationships/hyperlink" Target="http://en.wikipedia.org/wiki/Baroque" TargetMode="External"/><Relationship Id="rId7" Type="http://schemas.openxmlformats.org/officeDocument/2006/relationships/hyperlink" Target="http://en.wikipedia.org/wiki/Colloquialism" TargetMode="External"/><Relationship Id="rId8" Type="http://schemas.openxmlformats.org/officeDocument/2006/relationships/hyperlink" Target="http://en.wikipedia.org/wiki/Art_historians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therine_Palace" TargetMode="External"/><Relationship Id="rId2" Type="http://schemas.openxmlformats.org/officeDocument/2006/relationships/hyperlink" Target="http://en.wikipedia.org/wiki/Tsarskoye_Selo" TargetMode="External"/><Relationship Id="rId3" Type="http://schemas.openxmlformats.org/officeDocument/2006/relationships/hyperlink" Target="http://en.wikipedia.org/wiki/Tsarskoye_Selo" TargetMode="External"/><Relationship Id="rId4" Type="http://schemas.openxmlformats.org/officeDocument/2006/relationships/hyperlink" Target="http://en.wikipedia.org/wiki/Tsarskoye_Selo" TargetMode="External"/><Relationship Id="rId5" Type="http://schemas.openxmlformats.org/officeDocument/2006/relationships/hyperlink" Target="http://en.wikipedia.org/wiki/Image:CatherinePalaceNorthSide.jpg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therine_Palace" TargetMode="External"/><Relationship Id="rId2" Type="http://schemas.openxmlformats.org/officeDocument/2006/relationships/hyperlink" Target="http://en.wikipedia.org/wiki/Tsarskoye_Selo" TargetMode="External"/><Relationship Id="rId3" Type="http://schemas.openxmlformats.org/officeDocument/2006/relationships/hyperlink" Target="http://en.wikipedia.org/wiki/Tsarskoye_Selo" TargetMode="External"/><Relationship Id="rId4" Type="http://schemas.openxmlformats.org/officeDocument/2006/relationships/hyperlink" Target="http://en.wikipedia.org/wiki/Tsarskoye_Selo" TargetMode="External"/><Relationship Id="rId5" Type="http://schemas.openxmlformats.org/officeDocument/2006/relationships/hyperlink" Target="http://upload.wikimedia.org/wikipedia/commons/e/ef/Catherine_Palace_ballroom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ntoine_Watteau" TargetMode="External"/><Relationship Id="rId2" Type="http://schemas.openxmlformats.org/officeDocument/2006/relationships/hyperlink" Target="http://en.wikipedia.org/wiki/Fran&#231;ois_Boucher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ntoine_Watteau" TargetMode="External"/><Relationship Id="rId2" Type="http://schemas.openxmlformats.org/officeDocument/2006/relationships/hyperlink" Target="http://en.wikipedia.org/wiki/Fran&#231;ois_Boucher" TargetMode="External"/><Relationship Id="rId3" Type="http://schemas.openxmlformats.org/officeDocument/2006/relationships/hyperlink" Target="http://en.wikipedia.org/wiki/Image:Ottobeuren-basilika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Fran&#231;ois_Boucher_002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pload.wikimedia.org/wikipedia/commons/e/ef/Jean-Baptiste_Sim&#233;on_Chardin_029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ovember_2" TargetMode="External"/><Relationship Id="rId2" Type="http://schemas.openxmlformats.org/officeDocument/2006/relationships/hyperlink" Target="http://en.wikipedia.org/wiki/1699" TargetMode="External"/><Relationship Id="rId3" Type="http://schemas.openxmlformats.org/officeDocument/2006/relationships/hyperlink" Target="http://en.wikipedia.org/wiki/December_6" TargetMode="External"/><Relationship Id="rId4" Type="http://schemas.openxmlformats.org/officeDocument/2006/relationships/hyperlink" Target="http://en.wikipedia.org/wiki/1779" TargetMode="External"/><Relationship Id="rId5" Type="http://schemas.openxmlformats.org/officeDocument/2006/relationships/hyperlink" Target="http://en.wikipedia.org/wiki/France" TargetMode="External"/><Relationship Id="rId6" Type="http://schemas.openxmlformats.org/officeDocument/2006/relationships/hyperlink" Target="http://en.wikipedia.org/wiki/List_of_painters" TargetMode="External"/><Relationship Id="rId7" Type="http://schemas.openxmlformats.org/officeDocument/2006/relationships/hyperlink" Target="http://en.wikipedia.org/wiki/Still_life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o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tyle of 18th centur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nch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terior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Rococo rooms were designed as total works of art with elegant and ornate furniture, small sculptures, ornamental mirrors, 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apes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lementing architecture, reliefs, and wall paintings. It was largely supplanted by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eoclass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y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side of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atherine Pa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sarskoy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Se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rriage courtyard: all the stucco details sparkled with gold until 1773, when Catherine II had gilding replaced with olive drab pa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an-Baptiste: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Ra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172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Image:Jean-Baptiste Siméon Chardin 007.jpg"/>
          <p:cNvPicPr/>
          <p:nvPr/>
        </p:nvPicPr>
        <p:blipFill>
          <a:blip r:embed="rId1"/>
          <a:stretch/>
        </p:blipFill>
        <p:spPr>
          <a:xfrm>
            <a:off x="457200" y="15238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llroom of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therine Pa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sarskoye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coco Basilica at Ottobeuren (Bavaria): architectural spaces flow together and swarm with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d Rococo is seen as a combination of the Fren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cail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shell, and the Itali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roc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aroq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yle. Due to Rococo love of shell-like curves and focus on decorative arts, some critics used the term to derogatively imply that the style was frivolous or merely modish; interestingly, when the term was first used in English in about 1836, it was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olloquial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ing "old-fashioned". However, since the mid 19th century, the term has been accepted by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art histori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hile there is still some debate about the historical significance of the style to art in general, Rococo is now widely recognized as a major period in the development of European 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side of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therine Pal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sarskoy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e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carriage courtyard: all the stucco details sparkled with gold until 1773, when Catherine II had gilding replaced with olive drab pai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1676520"/>
            <a:ext cx="3733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llroom of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therine Pal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sarskoy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e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Image:Catherine Palace ballroom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16002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1730s represented the height of Rococo development in France. The style had spread beyond architecture and furniture to painting and sculpture, exemplified by the works of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toine Watteau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ançois Bouch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Rococo still maintained the Baroque taste for complex forms and intricate patterns, but by this point, it had begun to integrate a variety of diverse characteristics, including a taste for Oriental designs and asymmetric compos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730s represented the height of Rococo development in France. The style had spread beyond architecture and furniture to painting and sculpture, exemplified by the works of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toine Wattea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ançois Bouch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Rococo still maintained the Baroque taste for complex forms and intricate patt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Image:Jean-Baptiste Siméon Chardin 02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1600200"/>
            <a:ext cx="39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an-Bapti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an-Baptiste-Siméon Chard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ember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69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ecember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77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was an 18th-century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ren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ai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He is considered a master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till lif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an-Baptis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Image:Jean-Baptiste Siméon Chardin 029.jpg"/>
          <p:cNvPicPr/>
          <p:nvPr/>
        </p:nvPicPr>
        <p:blipFill>
          <a:blip r:embed="rId1"/>
          <a:stretch/>
        </p:blipFill>
        <p:spPr>
          <a:xfrm>
            <a:off x="4807080" y="1600200"/>
            <a:ext cx="371952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Image:Jean-Baptiste-Siméon Chardin.jpg"/>
          <p:cNvPicPr/>
          <p:nvPr/>
        </p:nvPicPr>
        <p:blipFill>
          <a:blip r:embed="rId2"/>
          <a:stretch/>
        </p:blipFill>
        <p:spPr>
          <a:xfrm>
            <a:off x="533520" y="1676520"/>
            <a:ext cx="3429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23:53Z</dcterms:created>
  <dc:creator>cwilsey</dc:creator>
  <dc:description/>
  <dc:language>en-US</dc:language>
  <cp:lastModifiedBy>cwilsey</cp:lastModifiedBy>
  <dcterms:modified xsi:type="dcterms:W3CDTF">2008-12-08T16:36:16Z</dcterms:modified>
  <cp:revision>2</cp:revision>
  <dc:subject/>
  <dc:title>Rococo Art</dc:title>
</cp:coreProperties>
</file>