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0CF-C72E-4210-A9AB-10D9F801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AD5-7E9F-44CB-943D-DE552749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A19-A3B6-41AC-AAC3-6F63DD16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29C-7D85-4C5B-83E8-99D6F866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1F-537D-4D54-A919-9D20FD5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058-9759-4C4B-AD5B-B086F3D3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BBB5-2EBE-4A56-9F41-8ECAA3A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A2C-6E75-4E5E-9311-4259691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7E3-9C62-4CAA-B67E-945EA0DA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E076-AE44-412C-9EA8-969A859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378-C378-4400-A344-5C53145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472-EC2B-4489-8057-F894DBD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7648-F860-480B-A963-D940F1C2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rench_art" TargetMode="External"/><Relationship Id="rId2" Type="http://schemas.openxmlformats.org/officeDocument/2006/relationships/hyperlink" Target="http://en.wikipedia.org/wiki/Interior_design" TargetMode="External"/><Relationship Id="rId3" Type="http://schemas.openxmlformats.org/officeDocument/2006/relationships/hyperlink" Target="http://en.wikipedia.org/wiki/Tapestry" TargetMode="External"/><Relationship Id="rId4" Type="http://schemas.openxmlformats.org/officeDocument/2006/relationships/hyperlink" Target="http://en.wikipedia.org/wiki/Neoclassicism" TargetMode="External"/><Relationship Id="rId5" Type="http://schemas.openxmlformats.org/officeDocument/2006/relationships/hyperlink" Target="http://en.wikipedia.org/wiki/Catherine_Palace" TargetMode="External"/><Relationship Id="rId6" Type="http://schemas.openxmlformats.org/officeDocument/2006/relationships/hyperlink" Target="http://en.wikipedia.org/wiki/Tsarskoye_Selo" TargetMode="External"/><Relationship Id="rId7" Type="http://schemas.openxmlformats.org/officeDocument/2006/relationships/hyperlink" Target="http://en.wikipedia.org/wiki/Tsarskoye_Selo" TargetMode="External"/><Relationship Id="rId8" Type="http://schemas.openxmlformats.org/officeDocument/2006/relationships/hyperlink" Target="http://en.wikipedia.org/wiki/Tsarskoye_Selo" TargetMode="External"/><Relationship Id="rId9" Type="http://schemas.openxmlformats.org/officeDocument/2006/relationships/hyperlink" Target="http://en.wikipedia.org/wiki/Image:Catherine_Palace_ballroom.jpg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Ottobeuren-basilika.jpg" TargetMode="External"/><Relationship Id="rId6" Type="http://schemas.openxmlformats.org/officeDocument/2006/relationships/hyperlink" Target="http://en.wikipedia.org/wiki/Baroque" TargetMode="External"/><Relationship Id="rId7" Type="http://schemas.openxmlformats.org/officeDocument/2006/relationships/hyperlink" Target="http://en.wikipedia.org/wiki/Colloquialism" TargetMode="External"/><Relationship Id="rId8" Type="http://schemas.openxmlformats.org/officeDocument/2006/relationships/hyperlink" Target="http://en.wikipedia.org/wiki/Art_historians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CatherinePalaceNorthSide.jpg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upload.wikimedia.org/wikipedia/commons/e/ef/Catherine_Palace_ballroom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hyperlink" Target="http://en.wikipedia.org/wiki/Image:Ottobeuren-basilika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an&#231;ois_Boucher_00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e/ef/Jean-Baptiste_Sim&#233;on_Chardin_029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vember_2" TargetMode="External"/><Relationship Id="rId2" Type="http://schemas.openxmlformats.org/officeDocument/2006/relationships/hyperlink" Target="http://en.wikipedia.org/wiki/1699" TargetMode="External"/><Relationship Id="rId3" Type="http://schemas.openxmlformats.org/officeDocument/2006/relationships/hyperlink" Target="http://en.wikipedia.org/wiki/December_6" TargetMode="External"/><Relationship Id="rId4" Type="http://schemas.openxmlformats.org/officeDocument/2006/relationships/hyperlink" Target="http://en.wikipedia.org/wiki/1779" TargetMode="External"/><Relationship Id="rId5" Type="http://schemas.openxmlformats.org/officeDocument/2006/relationships/hyperlink" Target="http://en.wikipedia.org/wiki/France" TargetMode="External"/><Relationship Id="rId6" Type="http://schemas.openxmlformats.org/officeDocument/2006/relationships/hyperlink" Target="http://en.wikipedia.org/wiki/List_of_painters" TargetMode="External"/><Relationship Id="rId7" Type="http://schemas.openxmlformats.org/officeDocument/2006/relationships/hyperlink" Target="http://en.wikipedia.org/wiki/Still_life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o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yle of 18th centu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nch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io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Rococo rooms were designed as total works of art with elegant and ornate furniture, small sculptures, ornamental mirrors,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ape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menting architecture, reliefs, and wall paintings. It was largely supplanted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oclas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atherine Pa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sarskoy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17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Image:Jean-Baptiste Siméon Chardin 007.jpg"/>
          <p:cNvPicPr/>
          <p:nvPr/>
        </p:nvPicPr>
        <p:blipFill>
          <a:blip r:embed="rId1"/>
          <a:stretch/>
        </p:blipFill>
        <p:spPr>
          <a:xfrm>
            <a:off x="457200" y="15238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coco Basilica at Ottobeuren (Bavaria): architectural spaces flow together and swarm with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Rococo is seen as a combination of the Fren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cai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shell, and the Ital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roc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o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yle. Due to Rococo love of shell-like curves and focus on decorative arts, some critics used the term to derogatively imply that the style was frivolous or merely modish; interestingly, when the term was first used in English in about 1836, it wa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lloquia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ing "old-fashioned". However, since the mid 19th century, the term has been accepted b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rt histori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ile there is still some debate about the historical significance of the style to art in general, Rococo is now widely recognized as a major period in the development of European 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765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:Catherine Palace ball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, but by this point, it had begun to integrate a variety of diverse characteristics, including a taste for Oriental designs and asymmetric com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:Jean-Baptiste Siméon Chardin 0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6002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an-Baptiste-Siméon Chard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ember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69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cember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7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as an 18th-centu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re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He is considered a maste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till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age:Jean-Baptiste Siméon Chardin 029.jpg"/>
          <p:cNvPicPr/>
          <p:nvPr/>
        </p:nvPicPr>
        <p:blipFill>
          <a:blip r:embed="rId1"/>
          <a:stretch/>
        </p:blipFill>
        <p:spPr>
          <a:xfrm>
            <a:off x="4807080" y="1600200"/>
            <a:ext cx="37195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mage:Jean-Baptiste-Siméon Chardin.jpg"/>
          <p:cNvPicPr/>
          <p:nvPr/>
        </p:nvPicPr>
        <p:blipFill>
          <a:blip r:embed="rId2"/>
          <a:stretch/>
        </p:blipFill>
        <p:spPr>
          <a:xfrm>
            <a:off x="533520" y="1676520"/>
            <a:ext cx="342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23:53Z</dcterms:created>
  <dc:creator>cwilsey</dc:creator>
  <dc:description/>
  <dc:language>en-US</dc:language>
  <cp:lastModifiedBy>cwilsey</cp:lastModifiedBy>
  <dcterms:modified xsi:type="dcterms:W3CDTF">2008-12-08T16:36:16Z</dcterms:modified>
  <cp:revision>2</cp:revision>
  <dc:subject/>
  <dc:title>Rococo Art</dc:title>
</cp:coreProperties>
</file>